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D1CE-F05D-451F-AF1A-C2A8BBB85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2BFB-8615-48D9-91C9-8F8CFD4A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6D44-B2AE-4869-BB6E-EBBAC3FB9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9645-982B-494A-AFBE-943B30DDA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FC85-3540-4A29-8A12-83CEDF1C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88B5-871E-474A-A9E9-4CD1257D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DB3F-8A8B-423B-8567-D84CC369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7E17-CEF0-41B0-94DF-ADF3E009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2B21-F71B-4F57-B6DD-E3D840EF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F8DC-91D3-4C31-A711-0B06DC48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18DF-7328-4BF5-8E76-BD43EEE1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30B4-C0F8-4981-B68E-CD08E897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A5AF-22D6-472A-A36E-9161AE86D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dc.gov/nchs/about/otheract/icd9/icd10cm.htm" TargetMode="External"/><Relationship Id="rId2" Type="http://schemas.openxmlformats.org/officeDocument/2006/relationships/hyperlink" Target="http://www.cms.hhs.gov/ICD9ProviderDiagnosticCodes/06_codes.asp#TopOfPage" TargetMode="External"/><Relationship Id="rId3" Type="http://schemas.openxmlformats.org/officeDocument/2006/relationships/hyperlink" Target="http://www.cms.hhs.gov/ICD10/01m_2009_ICD10PCS.asp#TopOfPage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cdc.gov/nchs/about/otheract/icd9/icd10cm.htm" TargetMode="External"/><Relationship Id="rId2" Type="http://schemas.openxmlformats.org/officeDocument/2006/relationships/hyperlink" Target="http://www.cms.hhs.gov/ICD10/02m_2009_ICD_10_CM.asp#TopOfPag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cms.hhs.gov/ICD10/02m_2009_ICD_10_CM.asp#TopOfPage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cms.hhs.gov/ICD10/01m_2009_ICD10PCS.asp#TopOfPage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cms.hhs.gov/ICD10/01m_2009_ICD10PCS.asp#TopOfPage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cms.hhs.gov/ICD10/01m_2009_ICD10PCS.asp#TopOfPage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10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CD-10 General Equivalence Mappings (GEM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9-CM Coordination &amp; Maintenanc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11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Ms give all plausible translation alternatives for the complete meaning of the code being looked up (source system c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ular instruction, index entries, guidelines, and applicable Coding Clinic 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62120" y="4038480"/>
          <a:ext cx="7694640" cy="2187360"/>
        </p:xfrm>
        <a:graphic>
          <a:graphicData uri="http://schemas.openxmlformats.org/drawingml/2006/table">
            <a:tbl>
              <a:tblPr/>
              <a:tblGrid>
                <a:gridCol w="2766960"/>
                <a:gridCol w="2443320"/>
                <a:gridCol w="248436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9-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10-CM/P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ward mapping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10-CM/P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9-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ward mapping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re is only one alternative in a GEM, we can say we have a “one-to-one”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necessarily mean the codes are iden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8153280" cy="246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72031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placed midcervical fracture of right femur, initial encounter for closed fra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82002 Fracture of midcervical section of femur, close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lternatives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may be multiple translation alternatives for a source system code, all of which are equally plau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lete meaning of ‘Burn’ in I-9 includes bo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mal burns (translates to ‘Burn’ in I-1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cal burns (translates to ‘Corrosion’ in I-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657240"/>
            <a:ext cx="8153640" cy="246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422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sters with epidermal loss due to burn (second degree) of abdominal w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T2122xA Burn of second degree of abdominal wall, initial encount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T2122xD Burn of second degree of abdominal wall, subsequent encount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T2162xA Corrosion of second degree of abdominal wall, initial encount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T2162xD Corrosion of second degree of abdominal wall, subsequent encou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-9 Clus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9 cluster: more than one I-9 code is required to equal a complete translation of one I-10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440" y="3048120"/>
            <a:ext cx="8001000" cy="307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1134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ype 2 diabetes mellitus with severe nonproliferative diabetic retinopathy with macular ed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050 Diabetes with ophthalmic manifestations, type II or unspecified type, not stated as uncontroll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206 Severe nonproliferative diabetic retinopath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207 Diabetic macular ed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-10 Clus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10 cluster: more than one I-10 code is required to equal a complete translation of one I-9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61760" y="2895120"/>
            <a:ext cx="7924680" cy="358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86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terior Resection Of Rectum With Synchronous Colostom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 I10 clu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DTP0ZZ Resection of Rectum, Open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DTP4ZZ Resection of Rectum, Percutaneous Endoscopic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DTP7ZZ Resection of Rectum, Via Natural or Artificial Ope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DTP8ZZ Resection of Rectum, Via Natural or Artificial Opening Endoscopic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D1N0Z4 Bypass Sigmoid Colon to Cutaneous, Open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D1N4Z4 Bypass Sigmoid Colon to Cutaneous, Percutaneous Endoscopic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D1N8Z4 Bypass Sigmoid Colon to Cutaneous, Via Natural or Artificial Opening Endosc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CD-9-CM to ICD-10-CM det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system code 414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ion includes the complete meaning of the source system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s to a single comparably specific alternative in the ICD-9-CM to ICD-10-CM 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440" y="4114440"/>
            <a:ext cx="8001000" cy="20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140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ronary atherosclerosis of native coronary art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2510 Atherosclerotic heart disease of native coronary artery without angina pectori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CD-10-CM to ICD-9-CM det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system code I25.110 contains both underlying cause and acute exacerb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system code 414.01 is part of an I-9 cluster in the ICD-10-CM to ICD-9-CM 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120" y="4038120"/>
            <a:ext cx="8077320" cy="216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251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herosclerotic heart disease of native coronary artery with unstable angina pector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401 Coronary atherosclerosis of native coronary arter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11 Intermediate coronary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CD-9-CM to ICD-10-PCS det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system code 86.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I-9 does not specify the anatomic site, all PCS body parts are plausible translation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0520" y="2895480"/>
            <a:ext cx="85345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65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uture Of Skin And Subcutaneous Tissue Of Other Si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10ZZ Repair Face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13ZZ Repair Face Subcutaneous Tissue and Fascia, Percutaneous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40ZZ Repair Anterior Neck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43ZZ Repair Anterior Neck Subcutaneous Tissue and Fascia, Percutaneous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50ZZ Repair Posterior Neck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53ZZ Repair Posterior Neck Subcutaneous Tissue and Fascia, Percutaneous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60ZZ Repair Chest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63ZZ Repair Chest Subcutaneous Tissue and Fascia, Percutaneous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70ZZ Repair Back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73ZZ Repair Back Subcutaneous Tissue and Fascia, Percutaneous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80ZZ Repair Abdomen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83ZZ Repair Abdomen Subcutaneous Tissue and Fascia, Percutaneou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CD-10-PCS to ICD-9-CM det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system code 0JQ60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re precise PCS code specifies body part an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non-specific I-9 codes are plausible translation alternatives for the PCS root operation Re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0880" y="3429000"/>
            <a:ext cx="8305920" cy="269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JQ60Z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air Chest Subcutaneous Tissue and Fascia, Open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65 Other Suture Of Muscle Or Fasci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89 Other Plastic Operations On Fasci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659 Suture Of Skin And Subcutaneous Tissue Of Other Si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EM file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system code on the left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 system code in the mid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s on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038120" y="1600200"/>
            <a:ext cx="4800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62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858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62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858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9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929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62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950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62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950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9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959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-9 and I-10 are different langu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s are the language of health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ith Spanish and English, ICD-9 and ICD-10 are different langu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-year generation gap between ICD-9-CM and ICD-10-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 reflects the current understanding and practice of medi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dding code 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GEM files to a spreadsheet or database, and add code descriptions for read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500x1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isoning by mineralocorticoids and their antagonists, accidental (unintentional)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620 Poisoning by adrenal cortical steroid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8580 Accidental poisoning by hormones and synthetic substitut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500x1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isoning by mineralocorticoids and their antagonists, accidental (unintentional), subsequent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620 Poisoning by adrenal cortical steroid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8580 Accidental poisoning by hormones and synthetic substitut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500x1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isoning by mineralocorticoids and their antagonists, accidental (unintentional), seque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090 Late effect of poisoning due to drug, medicinal or biological substanc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9292 Late effects of accidental poisoning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dding code 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CM code descriptions available on NCHS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dc.gov/nchs/about/otheract/icd9/icd10cm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and ICD-10-PCS code descriptions available on CMS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9-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ms.hhs.gov/ICD9ProviderDiagnosticCodes/06_codes.asp#TopOf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10-P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cms.hhs.gov/ICD10/01m_2009_ICD10PCS.asp#TopOf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as 1=On, 0=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different 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22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C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o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-9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0040 1011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0041 1011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0042 1011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0043 1011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0066 10111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3609 1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 Approximate Fl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1 of the 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eans the translation is an approximate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jority of alternatives are considered an approximate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eans the translation is an identical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re in the procedure G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common in the diagnosis G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066320" y="3962160"/>
            <a:ext cx="7086600" cy="231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olera due to Vibrio cholerae 01, biovar cholera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0010 Cholera due to vibrio cholera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0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olera due to Vibrio cholerae 01, biovar el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0011 Cholera due to vibrio cholerae el to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00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olera, unspecifi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0019 Cholera, unspecifi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 No Map Fl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2 of the 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eans there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usible translation for the source system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eans there is at least one plausible translation for the source system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240" y="3580920"/>
            <a:ext cx="662940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500x6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erdosing of mineralocorticoids and their antagonists, initial encou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No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500x6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erdosing of mineralocorticoids and their antagonists, subsequent encou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No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500x6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erdosing of mineralocorticoids and their antagonists, seque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No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 Combination Fl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3 of the 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eans the complete translation of the source system code requires more than one target system code (cluster, aka combination en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eans the complete translation of the source system code is satisfied by one of the target system code alternatives (single en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440" y="3962520"/>
            <a:ext cx="792468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RG20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usion of 2 or more Cervical Vertebral Joints with Internal Fixation Device, Anterior, Open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02 Other Cervical Fusion, Anterior Tech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62 Fusion Or Refusion Of 2-3 Vertebra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8163 Fusion Or Refusion Of 4-8 Vertebra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51 Insertion Of Interbody Spinal Fusion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cenario and Choice list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s 4 and 5 of the 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for organizing combination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 defines all the possible codes in a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ce list organizes the codes into pick lists—one code from each list in a scenario is a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62520" y="3276720"/>
            <a:ext cx="49528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500x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eign body in cornea, unspecified eye, initial encou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300 Corneal foreign bod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914 Foreign body accidentally entering eye and adnex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500x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eign body in cornea, unspecified eye, subsequent encou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300 Corneal foreign bod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914 Foreign body accidentally entering eye and adnex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500x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eign body in cornea, unspecified eye, seque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9085 Late effect of foreign body in orif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1523880"/>
            <a:ext cx="236232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A 9620 10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A E8580 10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D 9620 10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D E8580 10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S 9090 10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S E9292 10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onversion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ICD-9 based applications to native ICD-10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828440" y="2590920"/>
            <a:ext cx="57150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7 Respiratory infections &amp; inflammations w MC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8 Respiratory infections &amp; inflammations w C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9 Respiratory infections &amp; inflammations w/o CC/MC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0222 Salmonella pneumo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065 Amebic lung abs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15* Respiratory tuberculosis (7 code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202 Pneumonic plagu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212 Pulmonary tularem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221 Pulmonary anthrax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310 Pulmonary mycobacterial inf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420 Pulmonary actinomyco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430 Pulmonary nocardio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481 Legionnaires' dise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5272 Syphilis of lung and bronch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012 Varicella pneumo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052 Measles complicated by pneumo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onversion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Ms facilitate conversion projects of any size an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project: I-9 based MS-DRGs being converted to I-10 based MS-DR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um project: ICD-9-CM coding guidelines converted to ICD-10-CM coding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project: Convert ICD-9-CM based diabetes case management document to ICD-10-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onversion task: find and rep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pplications are composed of logical relationships between lists of ICD-9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sion involves “finding” ICD-9 lists embedded in applications and “replacing” the ICD-9 list with an ICD-10 equival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gic of application un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oal is to replicate, not mod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S-DRGs conversion uses this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Because Different is G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differences were not significant, there would be no incentive t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837720" y="2590920"/>
            <a:ext cx="7162920" cy="399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1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win pregnancy, unspecified as to episode of 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09 Twin pregnancy, unspecified, unspecifie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19 Twin pregnancy, monoamniotic/monochorionic, unspecifie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99 Other twin pregnancy, unspecifie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10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win pregnancy, deliver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09 Twin pregnancy, unspecified, unspecifie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10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win pregnancy, antepartum condition or compli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01 Twin pregnancy, unspecified, first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02 Twin pregnancy, unspecified, secon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03 Twin pregnancy, unspecified, thir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11 Twin pregnancy, monoamniotic/monochorionic, first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12 Twin pregnancy, monoamniotic/monochorionic, secon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13 Twin pregnancy, monoamniotic/monochorionic, thir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91 Other twin pregnancy, first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92 Other twin pregnancy, secon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93 Other twin pregnancy, third trimes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pplication-specific ma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n ICD-10 to ICD-9 mapping (aka crosswalk) that allows data submitted in ICD-10 to be processed using ICD-9 based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CD-10 Reimbursement Mappings are an application-specific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nterim measure while applications are being converted to a native ICD-10 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eneral re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raining material for ICD-10 coding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document improvement program for ICD-10 documentation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e the GEMs to understand the translation challenges in clinical/coding areas of particular interest to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0880" y="3352320"/>
            <a:ext cx="838224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anterolateral wall, episode of care unspecif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0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anterolateral wall, initial episode of 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0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anterolateral wall, subsequent episode of 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other anterior wall, episode of care unspecif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1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other anterior wall, initial episode of 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other anterior wall, subsequent episode of 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ich GEM to 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-10 to I-9 G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of application logic containing lists of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-9 to I-10 G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and forecasting of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I-10 to I-9 AND I-9 to I-10 G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conversion projects with access to clinical detail beyond the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Replication vs. Optim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l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o produce an I-10 based application that produces essentially the same results as the current I-9 based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ions must be reviewed and finalized, this is not auto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-DRGs conversion is an example of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ptim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o produce an I-10 based application that produces optimized results based on the increased detail in I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more complex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Ms can be used for both replication and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can I fin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Diagnosis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on NCHS website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dc.gov/nchs/about/otheract/icd9/icd10cm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on CMS website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ms.hhs.gov/ICD10/02m_2009_ICD_10_CM.asp#TopOf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905120" y="3208320"/>
            <a:ext cx="5029200" cy="344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can I fin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Diagnosis GEMs users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 NCH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on CM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02m_2009_ICD_10_CM.asp#TopOf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981080" y="3700440"/>
            <a:ext cx="533412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can I fin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 CM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01m_2009_ICD10PCS.asp#TopOf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38080" y="2641680"/>
            <a:ext cx="7467840" cy="388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can I fin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rocedure GEMs users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 CM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01m_2009_ICD10PCS.asp#TopOf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676520" y="3165480"/>
            <a:ext cx="5105160" cy="32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Ms vs. Reimbursement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GEMs, a single I-10 code can be translated to two or more alternative I-9 transl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09.89 Other specified rheumatic heart disea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has two plausible translation alterna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imbursement mapping contains one I-9 translation alternative chosen for reimbursement purposes, based on frequenc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3733560"/>
            <a:ext cx="3962160" cy="23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098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ther specified rheumatic heart dise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3971 Rheumatic diseases of pulmonary valv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39899 Other rheumatic heart dise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4572000"/>
            <a:ext cx="472428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1447920"/>
            <a:ext cx="388620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098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ther specified rheumatic heart dise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3971 Rheumatic diseases of pulmonary valv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39899 Other rheumatic heart dis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Ms vs. Reimbursement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Ms are designed to aid in converting applications and systems from I-9 to I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purpose translation 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“finding and replacing” codes or lists of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imbursement mappings are designed to be interposed between data submitted using I-10 codes and legacy systems using I-9 codes, so data can continue to be processed without converting the legacy system to I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m measure while systems are being conve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s a general translation a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Ms are a general purpose ICD-9/ICD-10 translation dicti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translation from ICD-9 to ICD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translation from ICD-10 to ICD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28600" y="3047760"/>
            <a:ext cx="86104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200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racture of midcervical section of femur, clo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1A Displaced midcervical fracture of righ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1G Displaced midcervical fracture of righ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2A Displaced midcervical fracture of lef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2G Displaced midcervical fracture of lef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3A Displaced midcervical fracture of unspecified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3G Displaced midcervical fracture of unspecified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4A Nondisplaced midcervical fracture of righ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4G Nondisplaced midcervical fracture of righ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5A Nondisplaced midcervical fracture of lef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5G Nondisplaced midcervical fracture of lef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6A Nondisplaced midcervical fracture of unspecified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6G Nondisplaced midcervical fracture of unspecified femur, subsequent encounter for closed fracture with delayed healing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622440"/>
            <a:ext cx="7924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861920" y="1067400"/>
            <a:ext cx="5800680" cy="1517760"/>
            <a:chOff x="1861920" y="1067400"/>
            <a:chExt cx="5800680" cy="1517760"/>
          </a:xfrm>
        </p:grpSpPr>
        <p:sp>
          <p:nvSpPr>
            <p:cNvPr id="154" name=""/>
            <p:cNvSpPr/>
            <p:nvPr/>
          </p:nvSpPr>
          <p:spPr>
            <a:xfrm>
              <a:off x="1861920" y="1067400"/>
              <a:ext cx="5800680" cy="6894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alth care claim (UB-04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8400" y="1342800"/>
              <a:ext cx="19335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10 Diagnosis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62440" y="1342800"/>
              <a:ext cx="20714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10 Procedure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28880" y="2171160"/>
              <a:ext cx="3728880" cy="414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-10-based system (I-10 MS-DRG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62440" y="1757160"/>
              <a:ext cx="0" cy="41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869840" y="3124800"/>
            <a:ext cx="5802480" cy="3507840"/>
            <a:chOff x="1869840" y="3124800"/>
            <a:chExt cx="5802480" cy="3507840"/>
          </a:xfrm>
        </p:grpSpPr>
        <p:sp>
          <p:nvSpPr>
            <p:cNvPr id="160" name=""/>
            <p:cNvSpPr/>
            <p:nvPr/>
          </p:nvSpPr>
          <p:spPr>
            <a:xfrm>
              <a:off x="2004840" y="3124800"/>
              <a:ext cx="5667480" cy="673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lth care clai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74840" y="3393720"/>
              <a:ext cx="1889280" cy="27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10 Diagnosis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38760" y="3393720"/>
              <a:ext cx="2023920" cy="27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10 Procedure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84480" y="6227280"/>
              <a:ext cx="3643200" cy="405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-9-based reimbursement 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69840" y="5013360"/>
              <a:ext cx="5667480" cy="808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verted health care clai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74840" y="5417640"/>
              <a:ext cx="2428920" cy="27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9 Diagnosis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38760" y="5417640"/>
              <a:ext cx="2563920" cy="27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9 Procedure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274840" y="3664080"/>
              <a:ext cx="720" cy="1753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64120" y="3664080"/>
              <a:ext cx="539640" cy="1753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38760" y="3664080"/>
              <a:ext cx="720" cy="1753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62680" y="3664080"/>
              <a:ext cx="539640" cy="1753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44480" y="3934080"/>
              <a:ext cx="1484280" cy="80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lication of diagnosis reimbursement mapp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38760" y="582264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08400" y="3933000"/>
              <a:ext cx="1484280" cy="80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lication of procedure reimbursement mapp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838080" y="2819520"/>
            <a:ext cx="7696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ystem conversion vs. Cross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velopment of the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translation using the I-10 to I-9 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n I-10 code is translated to one I-9 code, no additional review is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5% of the I-10 codes are translated to a single I-9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1-10 codes are translated to the same I-9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n I-10 code is translated to more than one I-9 code, historical I-9 code frequency data are used to determine the most commonly used I-9 code among the I-9 code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PAR and OHSPD (for newborn and OB codes) data we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vast majority of cases there is a clear dominant code in terms of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are cases, clinical review is needed to make the final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velopment of the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both MedPAR and OHSPD data sets come from hospital admission data, choosing between I-9 alternatives may reflect frequencies more characteristic of inpatient than outpatient data when the two di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omplications of pregn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10 does not specify whether the patient delivered during the en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imbursement mapping must choose between I-9 altern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npatient hospital data, the I-9 codes specifying delivery are far more frequent, while in outpatient and physician data, one would expect the I-9 codes specifying antepartum encounter to dom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3520" y="4724280"/>
            <a:ext cx="8076960" cy="152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610 Failed medical induction of lab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5910 Failed medical or unspecified induction of labor, unspecified as to episode of car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5911 Failed medical or unspecified induction of labor, deliver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5913 Failed medical or unspecified induction of labor, antepartu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848720" cy="17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velopment of the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I-10 codes with an entry in the GEMs are inclu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I-10 code is assigned to a single I-9 code or I-9 code clus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9 code cluster contains two or more I-9 codes that must be used in combination to attain the complete meaning of one I-10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29200" y="3657600"/>
            <a:ext cx="3809880" cy="2590920"/>
          </a:xfrm>
          <a:prstGeom prst="wedgeRectCallout">
            <a:avLst>
              <a:gd name="adj1" fmla="val -80833"/>
              <a:gd name="adj2" fmla="val 257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igned for reimburseme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2733D6 Dilation of Coronary Artery, Four or More Sites, Bifurcation, with Intraluminal Device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rcutaneous Approa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 assigned to this I-9 code clus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0.66 [PTCA] or coronary atherecto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0.43 Procedure on four or more vess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0.48 Insertion of four or more vascular s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6.06 Insertion of non-drug eluting coronary stent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0.44 Procedure on vessel bifur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05520" y="1676520"/>
            <a:ext cx="3809880" cy="1676160"/>
          </a:xfrm>
          <a:prstGeom prst="wedgeRectCallout">
            <a:avLst>
              <a:gd name="adj1" fmla="val -93375"/>
              <a:gd name="adj2" fmla="val 430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igned for reimburseme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72.032G Displaced midcervical fracture of left femur, subsequent encounter for closed fracture with delayed he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 assigned to this I-9 single co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820.02 Fracture of midcervical section of femur, cl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-9 code clu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ne ICD-10-PCS code contains a complete description of the procedure, and one ICD-10-CM code may contain both specification of the underlying disease and a current exacerbation or complication, multiple I-9 codes may be necessary to attain the same level of complet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3% of I-10 codes are assigned to an “I-9 code clust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838080" y="3886200"/>
            <a:ext cx="7848720" cy="22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10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ype 1 diabetes mellitus with diabetic catar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051 Diabetes with ophthalmic manifestations, type I [juvenile type], not stated as uncontroll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641 Diabetic cata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ppings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files, not part of the GEM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text files, a diagnosis code reimbursement mapping and a procedure code reimbursement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-character field for I-10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three, five-character fields for I-9 diagn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five, four-character fields for I-9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4191120"/>
            <a:ext cx="5715000" cy="2209680"/>
          </a:xfrm>
          <a:prstGeom prst="wedgeRectCallout">
            <a:avLst>
              <a:gd name="adj1" fmla="val 17805"/>
              <a:gd name="adj2" fmla="val -4870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imbursement Mapping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D-10-C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I-9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72032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D-10-P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-9 code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733D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66 0043 0048 3606 00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us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ding th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10 code on the lef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 in the middle indicates the number of I-9 codes required for a complete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9 code or codes on the righ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19720" y="4495320"/>
            <a:ext cx="45720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46 5 0066  0043  0048  3607  004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4Z 4 0066  0043  0048  3607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D6 5 0066  0043  0048  3606  004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DZ 4 0066  0043  0048  3606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Z6 3 0066  0043  004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ZZ 2 0066  00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3124080"/>
            <a:ext cx="251460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5029200"/>
            <a:ext cx="47242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4419720"/>
            <a:ext cx="3962520" cy="2057400"/>
          </a:xfrm>
          <a:prstGeom prst="wedgeRectCallout">
            <a:avLst>
              <a:gd name="adj1" fmla="val 49398"/>
              <a:gd name="adj2" fmla="val -49615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imbursement Mapping Ex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D-10-C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gle I-9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72032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D-10-P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-9 code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733D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0066 0043 0048 3606 00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867280" y="2286000"/>
            <a:ext cx="21337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D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E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F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G 1 820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H 1 8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J 1 8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us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rosswalk to legac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to be interposed between data submitted using I-10 codes and legacy systems using I-9 codes, so data can continue to be processed using the legac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im measure while systems are being conve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486400" y="1905120"/>
            <a:ext cx="2362320" cy="452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A 1 820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B 1 8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C 1 8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D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E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F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G 1 820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H 1 8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J 1 8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K 1 7338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M 1 7338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N 1 7338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P 1 7338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Q 1 7338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R 1 7338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S 1 905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us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ers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the purpose, the development, how to use and how to customize the mapp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ix A contains technical fil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510552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I find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gnosis AND Procedure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available on CM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01m_2009_ICD10PCS.asp#TopOf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838080" y="2743200"/>
            <a:ext cx="7467840" cy="388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-10 is much more specif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inent clinical detail has been added to ICD-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3520" y="2438280"/>
            <a:ext cx="8153280" cy="368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200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racture of midcervical section of femur, clo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1A Displaced midcervical fracture of righ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1G Displaced midcervical fracture of righ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2A Displaced midcervical fracture of lef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2G Displaced midcervical fracture of lef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3A Displaced midcervical fracture of unspecified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3G Displaced midcervical fracture of unspecified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4A Nondisplaced midcervical fracture of righ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4G Nondisplaced midcervical fracture of righ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5A Nondisplaced midcervical fracture of lef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5G Nondisplaced midcervical fracture of lef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6A Nondisplaced midcervical fracture of unspecified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6G Nondisplaced midcervical fracture of unspecified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or I-9 verbiage not in I-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distinctions in I-9 have been eli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828800" y="2361960"/>
            <a:ext cx="6400800" cy="376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54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nococcal heart inf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e te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nococcal endocar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nococcal myocar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nococcal pericar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09883 Gonococcal pericarditi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09884 Gonococcal endocarditi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09885 Other gonococcal heart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re are new I-10 categ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10 captures types of information not available anywhere in I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6840" y="2057040"/>
            <a:ext cx="84582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6A Underdosing of mineralocorticoids and their antagonis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1x6A Underdosing of loop [high-ceiling] diuretic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2x6A Underdosing of carbonic-anhydrase inhibitors, benzothiadiazides and other diuretic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3x6A Underdosing of electrolytic, caloric and water-balance agen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4x6A Underdosing of drugs affecting uric acid metabolism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5x6A Underdosing of appetite depressan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6x6A Underdosing of antidotes and chelating agen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7x6A Underdosing of analeptics and opioid receptor antagonis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8x6A Underdosing of diagnostic agen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906A Underdosing of unspecified drugs, medicaments and biological substance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996A Underdosing of other drugs, medicaments and biological substance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A16A Underdosing of pertussis vaccine, including combinations with a pertussis component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A26A Underdosing of mixed bacterial vaccines without a pertussis component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A96A Underdosing of other bacterial vaccine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B16A Underdosing of smallpox vaccine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B96A Underdosing of other viral vaccine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Z16A Underdosing of immunoglobulin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Z96A Underdosing of other vaccines and biological substances, initial encou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ranslation can be tric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oncepts express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e I-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re than one I-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complete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27034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lation of Coronary Artery, One Site, Bifurcation, with Drug-eluting Intraluminal Device, Percutaneous Approa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66 Percutaneous transluminal coronary angioplasty [PTCA] or coronary atherectom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40 Procedure on single vesse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45 Insertion of one vascular stent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7 Insertion Of Drug-Eluting Coronary Artery Stents(S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44 Procedure on vessel bifurcatio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27034Z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lation of Coronary Artery, One Site with Drug-eluting Intraluminal Device, Percutaneous Approa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66 Percutaneous transluminal coronary angioplasty [PTCA] or coronary atherectom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40 Procedure on single vesse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45 Insertion of one vascular stent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7 Insertion Of Drug-Eluting Coronary Artery Stents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ranslation re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i-directional code translation dictionary between ICD-9-CM and ICD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840" y="2666880"/>
            <a:ext cx="8381880" cy="381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102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ype 1 diabetes mellitus with diabetic nephropath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25043 Diabetes with renal manifestations, type I [juvenile type], uncontrolle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041 Diabetes with renal manifestations, type I [juvenile type], not stated as uncontrolle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8381 Nephritis and nephropathy, not specified as acute or chronic, in diseases classified elsewher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102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ype 1 diabetes mellitus with diabetic chronic kidney dise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25041 Diabetes with renal manifestations, type I [juvenile type], not stated as uncontrolle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102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ype 1 diabetes mellitus with other diabetic kidney compli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25041 Diabetes with renal manifestations, type I [juvenile type], not stated as uncontrolle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22:42:00Z</dcterms:created>
  <dc:creator>3M HIS rb</dc:creator>
  <dc:description/>
  <dc:language>en-US</dc:language>
  <cp:lastModifiedBy>3M HIS rb</cp:lastModifiedBy>
  <dcterms:modified xsi:type="dcterms:W3CDTF">2009-03-06T20:03:29Z</dcterms:modified>
  <cp:revision>47</cp:revision>
  <dc:subject/>
  <dc:title>GEMs 101</dc:title>
</cp:coreProperties>
</file>