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F80-96D4-4A08-9EC7-FE29F54C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4D2-EAB0-44ED-9757-0DE39884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BD8-47DF-4031-A591-83B5E33B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3DE-F8E3-44C3-8528-D07BD9BE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88A-B086-48D1-AC58-E58F951B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7F65-C5A1-448D-A11E-20CD669E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ABF-4BD0-4F19-AB48-8F55B995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930-C5F3-40F7-84F5-044890E5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7FB-CAF7-4943-AAB7-BECA9CF4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2A9-F241-4836-8482-ACAF5B48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BD6-12B4-4BC3-9668-AD91B678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3DD-7AFD-4DDE-B11C-96B4F5BB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C6C8-BA1F-44E8-A5C6-CEE34AF1A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nda Butler, 3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oordination &amp; Maintenanc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3184-B3BD-49DB-8B34-5896BADEEA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2651040"/>
            <a:ext cx="7010640" cy="364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ABD-2A2E-49D6-A753-5C3505B9F3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New” summary contains overview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2389320"/>
            <a:ext cx="7543800" cy="38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C817-43E9-4F37-AA85-020EC9F8EA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new values added in 2009 are parallel with new I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639040" cy="4186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5410080"/>
            <a:ext cx="457200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5C8-B5A0-49A3-B002-B5D9143645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alues are incorporated into the appropriate table(s) to create new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008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845820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360-7815-4FA9-9F79-7137055011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alues are incorporated into the appropriate table(s) to create new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009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686800" cy="2281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95680" y="4648320"/>
            <a:ext cx="441972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FF5-E5D3-44AC-90F9-34BD885BED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4114800" cy="23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 2009, ICD-10-PCS Final Add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report of codes added, deleted, and descriptions changed, in pdf and programmable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3298680"/>
            <a:ext cx="4267080" cy="241956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716B-78AB-48D8-B214-6C8339F691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or 2009, ICD-10-PCS Body Par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domain reference to accompany PC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d by both anatomical term and PCS bod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with public and Cooperating Partie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3362400"/>
            <a:ext cx="5791320" cy="317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160-06F2-4525-B38A-0FDF7A07F0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10 Updat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new c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rallel with ICD-9-CM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sponse to public requests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codes or change code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improvements from internal review and public feedback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enhancements to code set and draft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sponse to public requests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needed for clarity and ease of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C76-094B-4016-8649-FC6E0D13D2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21:16:58Z</dcterms:created>
  <dc:creator>3M HIS rb</dc:creator>
  <dc:description/>
  <dc:language>en-US</dc:language>
  <cp:lastModifiedBy>3M HIS rb</cp:lastModifiedBy>
  <dcterms:modified xsi:type="dcterms:W3CDTF">2009-03-02T14:24:48Z</dcterms:modified>
  <cp:revision>7</cp:revision>
  <dc:subject/>
  <dc:title>ICD-10-PCS Update</dc:title>
</cp:coreProperties>
</file>