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D69-1FF6-420A-BFC3-8AFBD936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2D4-1846-4CE9-BA2D-C1CE8FB2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852-6D02-4112-9A59-B31AD330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7A9-47C7-4981-9F76-D9A4F91B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AAC-03D0-4266-8EEA-077093C2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596-FDC2-4D5D-A32A-ED16775A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5EE-6FE3-4EC6-9C50-E340A549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C2C-3209-4911-B5FA-B07D8677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875-7194-402F-9749-0B04D764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B0F-29E5-4006-9FC0-C974DB1A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9A6-63D5-4D0F-94B0-BF1742BB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56E-4EB0-4F89-B4D8-0987F171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A0BA-D7E0-4F75-8E64-1B5CA42FF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9ProviderDiagnosticCodes/06_codes.asp#TopOfPage" TargetMode="External"/><Relationship Id="rId3" Type="http://schemas.openxmlformats.org/officeDocument/2006/relationships/hyperlink" Target="http://www.cms.hhs.gov/ICD10/01m_2009_ICD10PCS.asp#TopOfPag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10/02m_2009_ICD_10_CM.asp#TopOfPag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2m_2009_ICD_10_CM.asp#TopOfPag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CD-10 General Equivalence Mappings (GEM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give all plausible translation alternatives for the complete meaning of the code being looked up (source system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 instruction, index entries, guidelines, and applicable Coding Clinic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4038480"/>
          <a:ext cx="7694640" cy="2187360"/>
        </p:xfrm>
        <a:graphic>
          <a:graphicData uri="http://schemas.openxmlformats.org/drawingml/2006/table">
            <a:tbl>
              <a:tblPr/>
              <a:tblGrid>
                <a:gridCol w="2766960"/>
                <a:gridCol w="2443320"/>
                <a:gridCol w="24843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only one alternative in a GEM, we can say we have a “one-to-one”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cessarily mean the codes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72031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ced midcervical fracture of right femur, initial encounter for closed fra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2002 Fracture of midcervical section of femur, clo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ultiple translation alternatives for a source system code, all of which are equally plau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meaning of ‘Burn’ in I-9 includes 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burns (translates to ‘Burn’ in I-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burns (translates to ‘Corrosion’ in I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815364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2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sters with epidermal loss due to burn (second degree) of abdomina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A Bur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D Burn of second degree of abdominal wall, subsequent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A Corrosio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D Corrosion of second degree of abdominal wall, subsequen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luster: more than one I-9 code is required to equal a complete translation of on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048120"/>
            <a:ext cx="800100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13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2 diabetes mellitus with severe nonproliferative diabetic retinopathy with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0 Diabetes with ophthalmic manifestations, type II or unspecified type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6 Severe nonproliferative diabetic retinopath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7 Diabetic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10 cluster: more than one I-10 code is required to equal a complete translation of one I-9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erior Resection Of Rectum With Synchronous Colost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10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TP0ZZ Resection of Rectum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4ZZ Resection of Rectum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7ZZ Resection of Rectum, Via Natural or Artificial Op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8ZZ Resection of Rectum, Via Natural or Artificial Opening Endoscop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1N0Z4 Bypass Sigmoid Colon to Cutaneous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4Z4 Bypass Sigmoid Colon to Cutaneous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8Z4 Bypass Sigmoid Colon to Cutaneous, Via Natural or Artificial Opening End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41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includes the complete meaning of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o a single comparably specific alternative in the ICD-9-CM to ICD-10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0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14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onary atherosclerosis of native coronary ar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2510 Atherosclerotic heart disease of native coronary artery without angina pector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CM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I25.110 contains both underlying cause and acute exace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ystem code 414.01 is part of an I-9 cluster in the ICD-10-CM to ICD-9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4038120"/>
            <a:ext cx="8077320" cy="21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25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herosclerotic heart disease of native coronary artery with unstable angina pect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401 Coronary atherosclerosis of native coronary art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11 Intermediate coronary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PCS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86.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-9 does not specify the anatomic site, all PCS body parts are plausible translation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2895480"/>
            <a:ext cx="85345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ture Of Skin And Subcutaneous Tissue Of Other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0ZZ Repair Face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3ZZ Repair Face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0ZZ Repair An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3ZZ Repair An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0ZZ Repair Pos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3ZZ Repair Pos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0ZZ Repair Chest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3ZZ Repair Chest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0ZZ Repair Ba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3ZZ Repair Ba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0ZZ Repair Abdomen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3ZZ Repair Abdomen Subcutaneous Tissue and Fascia, Percutaneou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PCS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ystem code 0JQ60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precise PCS code specifies body part an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non-specific I-9 codes are plausible translation alternatives for the PCS root operation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880" y="3429000"/>
            <a:ext cx="8305920" cy="26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JQ60Z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air Chest Subcutaneous Tissue and Fascia, Open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65 Other Suture Of Muscle Or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89 Other Plastic Operations On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659 Suture Of Skin And Subcutaneous Tissue Of Oth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M fil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on the lef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system code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2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and I-10 are different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s are the language of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anish and English, ICD-9 and ICD-10 are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-year generation gap between ICD-9-CM and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reflects the current understanding and practice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GEM files to a spreadsheet or database, and add code descriptions for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ubsequent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eque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90 Late effect of poisoning due to drug, medicinal or biological substan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292 Late effects of accidental poison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code descriptions available on NCH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and ICD-10-PCS code descriptions available on CM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9ProviderDiagnosticCodes/06_code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ms.hhs.gov/ICD10/01m_2009_ICD10PC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 1=On, 0=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fferent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C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-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0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1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2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3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66 1011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3609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Approximate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1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translation is an approximate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of alternatives are considered an approximat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translation is an identica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in the procedure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on in the diagnosis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320" y="3962160"/>
            <a:ext cx="708660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chole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0 Cholera due to vibrio cholera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el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1 Cholera due to vibrio cholerae el 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, unspec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9 Cholera, unspecif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No Map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2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r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re is at least one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240" y="3580920"/>
            <a:ext cx="6629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initial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ubsequent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eq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Combination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3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complete translation of the source system code requires more than one target system code (cluster, aka combination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complete translation of the source system code is satisfied by one of the target system code alternatives (single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62520"/>
            <a:ext cx="79246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RG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sion of 2 or more Cervical Vertebral Joints with Internal Fixation Device, Anterior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02 Other Cervical Fusion, Anterio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62 Fusion Or Refusion Of 2-3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63 Fusion Or Refusion Of 4-8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51 Insertion Of Interbody Spinal Fusi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ario and Choice lis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s 4 and 5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organizing combination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fines all the possible codes in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list organizes the codes into pick lists—one code from each list in a scenario is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2520" y="3276720"/>
            <a:ext cx="49528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initial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ubsequent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eque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085 Late effect of foreign body in ori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523880"/>
            <a:ext cx="236232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909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E9292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ICD-9 based applications to native ICD-1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8440" y="2590920"/>
            <a:ext cx="5715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7 Respiratory infections &amp; inflammations w 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8 Respiratory infections &amp; inflammations w 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9 Respiratory infections &amp; inflammations w/o CC/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222 Salmon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65 Amebic lung abs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5* Respiratory tuberculosis (7 cod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02 Pneumonic plag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2 Pulmonary tularem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21 Pulmonary anthra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10 Pulmonary mycobacterial inf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20 Pulmonary actinomyc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30 Pulmonary nocardi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81 Legionnaires' dis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5272 Syphilis of lung and bronch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12 Varic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52 Measles complicated by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facilitate conversion projects of any size a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: I-9 based MS-DRGs being converted to I-10 based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project: ICD-9-CM coding guidelines converted to ICD-10-CM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roject: Convert ICD-9-CM based diabetes case management document to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task: find and re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pplications are composed of logical relationships between lists of ICD-9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involves “finding” ICD-9 lists embedded in applications and “replacing” the ICD-9 list with an ICD-10 equival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 of applicatio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al is to replicate, not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S-DRGs conversion uses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cause Different i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s were not significant, there would be no incentiv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2590920"/>
            <a:ext cx="716292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unspecified as to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9 Twin pregnancy, monoamniotic/monochorionic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9 Other twin pregnancy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deliver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antepartum condition or com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1 Twin pregnancy, unspecified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2 Twin pregnancy, unspecified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3 Twin pregnancy, unspecified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1 Twin pregnancy, monoamniotic/monochorionic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2 Twin pregnancy, monoamniotic/monochorionic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3 Twin pregnancy, monoamniotic/monochorionic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1 Other twin pregnancy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2 Other twin pregnancy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3 Other twin pregnancy, third trimes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pplication-specific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CD-10 to ICD-9 mapping (aka crosswalk) that allows data submitted in ICD-10 to be processed using ICD-9 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D-10 Reimbursement Mappings are an application-specif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terim measure while applications are being converted to a native ICD-10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raining material for ICD-10 coding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document improvement program for ICD-10 document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the GEMs to understand the translation challenges in clinical/coding areas of particular interes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0880" y="3352320"/>
            <a:ext cx="83822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ich GEM t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10 to I-9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pplication logic containing lists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9 to I-10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nd forecasting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-10 to I-9 AND I-9 to I-10 G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version projects with access to clinical detail beyond th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plication vs.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essentially the same results as the current I-9 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s must be reviewed and finalized, this is not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conversion is an example of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optimized results based on the increased detail in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s can be used for both replic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10/02m_2009_ICD_10_CM.asp#TopOf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05120" y="3208320"/>
            <a:ext cx="5029200" cy="34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2m_2009_ICD_10_CM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81080" y="3700440"/>
            <a:ext cx="53341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2641680"/>
            <a:ext cx="7467840" cy="38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3165480"/>
            <a:ext cx="510516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EMs, a single I-10 code can be translated to two or more alternative I-9 trans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09.89 Other specified rheumatic heart dise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two plausible translation altern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contains one I-9 translation alternative chosen for reimbursement purposes, based on frequenc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3962160" cy="23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572000"/>
            <a:ext cx="47242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447920"/>
            <a:ext cx="38862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translat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are designed to be interposed between data submitted using I-10 codes and legacy systems using I-9 codes, so data can continue to be processed without converting the legacy system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 a general translation 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are a general purpose ICD-9/ICD-10 translation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9 to ICD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10 to ICD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2440"/>
            <a:ext cx="7924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1920" y="1067400"/>
            <a:ext cx="5800680" cy="1517760"/>
            <a:chOff x="1861920" y="1067400"/>
            <a:chExt cx="5800680" cy="1517760"/>
          </a:xfrm>
        </p:grpSpPr>
        <p:sp>
          <p:nvSpPr>
            <p:cNvPr id="154" name=""/>
            <p:cNvSpPr/>
            <p:nvPr/>
          </p:nvSpPr>
          <p:spPr>
            <a:xfrm>
              <a:off x="1861920" y="1067400"/>
              <a:ext cx="5800680" cy="689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care claim (UB-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8400" y="1342800"/>
              <a:ext cx="1933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440" y="1342800"/>
              <a:ext cx="2071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8880" y="2171160"/>
              <a:ext cx="3728880" cy="414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-10-based system (I-10 MS-DRG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62440" y="1757160"/>
              <a:ext cx="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69840" y="3124800"/>
            <a:ext cx="5802480" cy="3507840"/>
            <a:chOff x="1869840" y="3124800"/>
            <a:chExt cx="5802480" cy="3507840"/>
          </a:xfrm>
        </p:grpSpPr>
        <p:sp>
          <p:nvSpPr>
            <p:cNvPr id="160" name=""/>
            <p:cNvSpPr/>
            <p:nvPr/>
          </p:nvSpPr>
          <p:spPr>
            <a:xfrm>
              <a:off x="2004840" y="3124800"/>
              <a:ext cx="5667480" cy="67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74840" y="3393720"/>
              <a:ext cx="1889280" cy="2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3393720"/>
              <a:ext cx="202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227280"/>
              <a:ext cx="364320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-9-based reimbursement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9840" y="5013360"/>
              <a:ext cx="5667480" cy="808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ed 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4840" y="5417640"/>
              <a:ext cx="2428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5417640"/>
              <a:ext cx="256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7484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412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6268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480" y="3934080"/>
              <a:ext cx="148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diagnosis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8760" y="5822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8400" y="3933000"/>
              <a:ext cx="148428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procedure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2819520"/>
            <a:ext cx="769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 conversion vs. Cross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nslation using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of the I-10 codes are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OHSPD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both MedPAR and OHSPD data sets come from hospital admission data, choosing between I-9 alternatives may reflect frequencies more characteristic of inpatient than outpatient data when the two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mplications of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does not specify whether the patient delivered during the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must choose between I-9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patient hospital data, the I-9 codes specifying delivery are far more frequent, while in outpatient and physician data, one would expect the I-9 codes specifying antepartum encounter to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4724280"/>
            <a:ext cx="807696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610 Failed medical induction of la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0 Failed medical or unspecified induction of labor, unspecified as to episode of 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1 Failed medical or unspecified induction of labor, deliver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3 Failed medical or unspecified induction of labor, antepart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-10 codes with an entry in the GEMs are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-10 code is assigned to a single I-9 code or I-9 code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9 code cluster contains two or more I-9 codes that must be used in combination to attain the complete meaning of one I-10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657600"/>
            <a:ext cx="3809880" cy="2590920"/>
          </a:xfrm>
          <a:prstGeom prst="wedgeRectCallout">
            <a:avLst>
              <a:gd name="adj1" fmla="val -80833"/>
              <a:gd name="adj2" fmla="val 257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2733D6 Dilation of Coronary Artery, Four or More Sites, Bifurcation, with Intraluminal Devic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cutaneous Approa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code clus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66 [PTCA] or coronary atherect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3 Procedure on four or more 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8 Insertion of four or more vascular s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6.06 Insertion of non-drug eluting coronary sten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4 Procedure on vessel bifur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676520"/>
            <a:ext cx="3809880" cy="1676160"/>
          </a:xfrm>
          <a:prstGeom prst="wedgeRectCallout">
            <a:avLst>
              <a:gd name="adj1" fmla="val -93375"/>
              <a:gd name="adj2" fmla="val 430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72.032G Displaced midcervical fracture of left femur, subsequent encounter for closed fracture with delayed h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single c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20.02 Fracture of midcervical section of femur,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-9 code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ne ICD-10-PCS code contains a complete description of the procedure, and one ICD-10-CM code may contain both specification of the underlying disease and a current exacerbation or complication, multiple I-9 codes may be necessary to attain the same level of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of I-10 codes are assigned to an “I-9 code clu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3886200"/>
            <a:ext cx="784872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0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1 diabetes mellitus with diabetic cata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1 Diabetes with ophthalmic manifestations, type I [juvenile type]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641 Diabetic cata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pping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iles, not part of the GEM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ext files, a diagnosis code reimbursement mapping and a procedure code reimbursement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-character field for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three, five-character fields for I-9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ve, four-character fields for I-9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191120"/>
            <a:ext cx="5715000" cy="2209680"/>
          </a:xfrm>
          <a:prstGeom prst="wedgeRectCallout">
            <a:avLst>
              <a:gd name="adj1" fmla="val 17805"/>
              <a:gd name="adj2" fmla="val -48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6 0043 0048 3606 0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code on the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 in the middle indicates the number of I-9 codes required 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ode or codes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4495320"/>
            <a:ext cx="45720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6 5 0066  0043  0048  3607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Z 4 0066  0043  0048  36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6 5 0066  0043  0048  3606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Z 4 0066  0043  0048  36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6 3 0066  0043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Z 2 0066  00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124080"/>
            <a:ext cx="2514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029200"/>
            <a:ext cx="4724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419720"/>
            <a:ext cx="3962520" cy="2057400"/>
          </a:xfrm>
          <a:prstGeom prst="wedgeRectCallout">
            <a:avLst>
              <a:gd name="adj1" fmla="val 49398"/>
              <a:gd name="adj2" fmla="val -496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0066 0043 0048 3606 0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133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osswalk to legac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interposed between data submitted using I-10 codes and legacy systems using I-9 codes, so data can continue to be processed using the legac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6400" y="1905120"/>
            <a:ext cx="236232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A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B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C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K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M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N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P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Q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R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S 1 90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purpose, the development, how to use and how to customize the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 contains technical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find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is AND Proced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is much mor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clinical detail has been added to ICD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or I-9 verbiage not in I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stinctions in I-9 have been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828800" y="2361960"/>
            <a:ext cx="6400800" cy="37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54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nococcal heart inf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my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peri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3 Gonococcal peri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4 Gonococcal endo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5 Other gonococcal heart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re are new I-10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captures types of information not available anywhere in I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6A Underdosing of mineralocorticoids and thei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1x6A Underdosing of loop [high-ceiling]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2x6A Underdosing of carbonic-anhydrase inhibitors, benzothiadiazides and other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3x6A Underdosing of electrolytic, caloric and water-balance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4x6A Underdosing of drugs affecting uric acid metabolism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5x6A Underdosing of appetite depressa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6x6A Underdosing of antidotes and chelating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7x6A Underdosing of analeptics and opioid recepto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8x6A Underdosing of diagnostic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06A Underdosing of unspecified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96A Underdosing of other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16A Underdosing of pertussis vaccine, including combinations with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26A Underdosing of mixed bacterial vaccines without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96A Underdosing of other bacteri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16A Underdosing of smallpox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96A Underdosing of other vir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16A Underdosing of immunoglobulin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96A Underdosing of other vaccines and biological substances, initial e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can be tr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express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I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than one I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, Bifurcation,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4 Procedure on vessel bifurc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-directional code translation dictionary between ICD-9-CM and ICD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2666880"/>
            <a:ext cx="838188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nephropat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3 Diabetes with renal manifestations, type I [juvenile type],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8381 Nephritis and nephropathy, not specified as acute or chronic, in diseases classified elsewher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chronic kidney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other diabetic kidney com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42:00Z</dcterms:created>
  <dc:creator>3M HIS rb</dc:creator>
  <dc:description/>
  <dc:language>en-US</dc:language>
  <cp:lastModifiedBy>3M HIS rb</cp:lastModifiedBy>
  <dcterms:modified xsi:type="dcterms:W3CDTF">2009-03-06T20:03:29Z</dcterms:modified>
  <cp:revision>47</cp:revision>
  <dc:subject/>
  <dc:title>GEMs 101</dc:title>
</cp:coreProperties>
</file>