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CEB8E2C-3907-4588-8E7F-F14AE60CA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706293C-6233-4512-9EF5-0808C0200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DBFEDE9-C8BC-40BB-83B9-2A4761C21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CB82AE7-15C2-4D6C-9CC8-8B8E80233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6A255BB-C387-4B13-9BEE-95ECB6CB9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FFE0FAE-0533-4AD0-983E-8A3BB6792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2E2B880-A992-41E8-BE14-B5D6A740B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FB55-6922-477E-B7A0-43DADA10D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15DF-52CF-4B3A-B8BD-98DD2939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0D66-D4C7-47AD-BCAF-B67E46A35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BFB7-ED15-4F27-B2B5-FC6C78190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F105-F2B3-41CA-872D-F851FB23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54D5-AAF7-4E4F-8DC7-3536F027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BBD3-B2CE-41EC-81B3-1427E8B6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A5D6-D284-4E5F-9D9F-3506F07A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E969-7E9B-4D5A-A1BB-E86E43AB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E1EC-40AE-40F0-ADB2-1C908472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66AA-F72F-4AD1-AA11-EEB41D41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CC7E-9FA8-4A80-A57B-ABE8EABC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6BA9-4D8F-48DD-A0C6-26F56805A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asurement of Intra-sac Pressure in an Aneurysm Following EV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62120" y="3580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an P. Roddy, M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mber, Health Policy Committ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ciety for Vascular Surg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ssociate Professor of Surgery, Albany Medical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6320" y="2179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 potential appro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tralateral (recommend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psilat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rmined by endograft type, patient anatomy, vessel condition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gical placement of pressure measurement sen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267080" y="1981080"/>
            <a:ext cx="4267440" cy="28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791320" y="338040"/>
            <a:ext cx="2286000" cy="16430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80880" y="228600"/>
            <a:ext cx="51818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Recommended surgical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ttain bilateral guidewire acc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791320" y="2031840"/>
            <a:ext cx="2286000" cy="1549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0880" y="2666880"/>
            <a:ext cx="44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nsert main body of stent graf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5791320" y="3633840"/>
            <a:ext cx="2286000" cy="1547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80880" y="3886200"/>
            <a:ext cx="4572000" cy="7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nsert sheath on contralateral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Use wire to locate g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5791320" y="5234040"/>
            <a:ext cx="2286000" cy="1547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562720"/>
            <a:ext cx="434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451"/>
              </a:spcBef>
              <a:buClr>
                <a:srgbClr val="00cc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Arial"/>
              </a:rPr>
              <a:t>Insert additional wire through contralateral sheath next to gate wire and advance into sa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791320" y="279360"/>
            <a:ext cx="2286000" cy="1549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80880" y="152280"/>
            <a:ext cx="5181840" cy="12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Recommended surgical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75000"/>
              </a:lnSpc>
              <a:spcBef>
                <a:spcPts val="499"/>
              </a:spcBef>
              <a:buClr>
                <a:srgbClr val="00cc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Arial"/>
              </a:rPr>
              <a:t>Insert sensor over guidewire through contralateral sheath and advance into sa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75000"/>
              </a:lnSpc>
              <a:spcBef>
                <a:spcPts val="499"/>
              </a:spcBef>
              <a:buClr>
                <a:srgbClr val="00cc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Arial"/>
              </a:rPr>
              <a:t>Calibrate sensor and take first reading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791320" y="1905120"/>
            <a:ext cx="2286000" cy="1555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0880" y="1981080"/>
            <a:ext cx="510552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75000"/>
              </a:lnSpc>
              <a:spcBef>
                <a:spcPts val="499"/>
              </a:spcBef>
              <a:buClr>
                <a:srgbClr val="00cc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Arial"/>
              </a:rPr>
              <a:t>Remove contralateral sheath over sensor catheter and gate wire, maintaining sensor position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ntroduce contralateral graft limb (or limb delivery sheath) over gate wi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791320" y="3529080"/>
            <a:ext cx="2334960" cy="15764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80880" y="3886200"/>
            <a:ext cx="51055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Deploy contralateral limb and fix graf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75000"/>
              </a:lnSpc>
              <a:spcBef>
                <a:spcPts val="499"/>
              </a:spcBef>
              <a:buClr>
                <a:srgbClr val="00cc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Arial"/>
              </a:rPr>
              <a:t>Take final sensor rea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5791320" y="5181480"/>
            <a:ext cx="2361960" cy="15955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28600" y="5530680"/>
            <a:ext cx="5334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75000"/>
              </a:lnSpc>
              <a:spcBef>
                <a:spcPts val="499"/>
              </a:spcBef>
              <a:buClr>
                <a:srgbClr val="00cc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Arial"/>
              </a:rPr>
              <a:t>Confirm sensor position, release sensor and remove sensor delivery cathe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ey Documentation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ysician includes in dict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cedure performed in operating 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cement of pressure measurement sen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f external electronic monitoring equipment to measure pressure/verify appropriate placement of g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ata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ck of specific ICD-9-CM codes for placement of a pressure measurement sensor and monitoring intra-arterial pressure during endovascular repair of an aneurysm creates ongoing data issu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ability to track procedures clearly in the encod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ability to differentiate EVAR procedures that use pressure measurement sen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ability to review and analyze data specific to these 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asurement of Intra-sac Pressure in an Aneurysm Following EV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ank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ortic Aneurys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ccur when a weak area of the aorta expands or bul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bdominal Aortic Aneurysm (AA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oracic Aortic Aneurysm (TA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~65,000 aneurysms repaired ann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 potential treat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pen rep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dovascular aneurysm rep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27950" t="0" r="0" b="0"/>
          <a:stretch/>
        </p:blipFill>
        <p:spPr>
          <a:xfrm>
            <a:off x="5607000" y="1905120"/>
            <a:ext cx="3156120" cy="350496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ndovascular Aneurysm Repair (EVA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R accounts for the majority of aneurysm repair surg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reased complications / morbidity vs. open surgical re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tential EVAR com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olea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ft 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rcRect l="12501" t="0" r="6249" b="0"/>
          <a:stretch/>
        </p:blipFill>
        <p:spPr>
          <a:xfrm>
            <a:off x="4495680" y="2133720"/>
            <a:ext cx="4343400" cy="319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798120" y="510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04800" y="960480"/>
            <a:ext cx="212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76280" y="1473120"/>
          <a:ext cx="8439120" cy="820800"/>
        </p:xfrm>
        <a:graphic>
          <a:graphicData uri="http://schemas.openxmlformats.org/drawingml/2006/table">
            <a:tbl>
              <a:tblPr/>
              <a:tblGrid>
                <a:gridCol w="2084400"/>
                <a:gridCol w="2084400"/>
                <a:gridCol w="2084400"/>
                <a:gridCol w="21859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adequate Se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llateral Vess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slodged or Torn Lim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abric Weep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ndoleaks – The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6095880"/>
            <a:ext cx="541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age courtesy of T. Ohki, M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80880" y="2514600"/>
            <a:ext cx="8229600" cy="39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raining 30" descr=""/>
          <p:cNvPicPr/>
          <p:nvPr/>
        </p:nvPicPr>
        <p:blipFill>
          <a:blip r:embed="rId2"/>
          <a:srcRect l="24143" t="0" r="24143" b="0"/>
          <a:stretch/>
        </p:blipFill>
        <p:spPr>
          <a:xfrm>
            <a:off x="1231920" y="2133720"/>
            <a:ext cx="2286000" cy="33145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0000" y="131760"/>
            <a:ext cx="8348760" cy="13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ireless pressure sensors were recently introduced to help identify successful aneurysm exclusion following endovascular aneurysm repair (EVAR).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20720" y="2421000"/>
            <a:ext cx="384120" cy="1440"/>
          </a:xfrm>
          <a:prstGeom prst="line">
            <a:avLst/>
          </a:prstGeom>
          <a:ln w="255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2504880" y="2421000"/>
            <a:ext cx="384120" cy="1440"/>
          </a:xfrm>
          <a:prstGeom prst="line">
            <a:avLst/>
          </a:prstGeom>
          <a:ln w="255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98760" y="4708440"/>
            <a:ext cx="318960" cy="216000"/>
          </a:xfrm>
          <a:prstGeom prst="line">
            <a:avLst/>
          </a:prstGeom>
          <a:ln w="255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2284560" y="5105160"/>
            <a:ext cx="318960" cy="215640"/>
          </a:xfrm>
          <a:prstGeom prst="line">
            <a:avLst/>
          </a:prstGeom>
          <a:ln w="255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1828800"/>
            <a:ext cx="161604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Proximal S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8920" y="4305240"/>
            <a:ext cx="140184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Distal S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819520" y="5334120"/>
            <a:ext cx="380880" cy="30456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5715000"/>
            <a:ext cx="2048040" cy="580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Arial"/>
                <a:ea typeface="ＭＳ Ｐゴシック"/>
              </a:rPr>
              <a:t>Entry site of Cath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1600200"/>
            <a:ext cx="4267080" cy="50630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leared by FDA in November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Angiography/CTA provide images which are not definitive about the existence, location or type of le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Safety – radiation, contrast tox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Inconvenience (every 6 month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Measuring sac pressure provides evidence for successful aneurysm exclusion which should translate into long-term graft stability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  <a:ea typeface="ＭＳ Ｐゴシック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30000">
                <a:solidFill>
                  <a:srgbClr val="ffffff"/>
                </a:solidFill>
                <a:latin typeface="Times New Roman"/>
                <a:ea typeface="ＭＳ Ｐゴシック"/>
              </a:rPr>
              <a:t>1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Treharne, et al., 19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30000">
                <a:solidFill>
                  <a:srgbClr val="ffffff"/>
                </a:solidFill>
                <a:latin typeface="Times New Roman"/>
                <a:ea typeface="ＭＳ Ｐゴシック"/>
              </a:rPr>
              <a:t>2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ias et al.,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40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9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900"/>
                            </p:stCondLst>
                            <p:childTnLst>
                              <p:par>
                                <p:cTn id="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4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ntra-arterial pressure sensor and electronic monitoring equi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990720" y="3276720"/>
            <a:ext cx="3112920" cy="2068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687920" y="2209680"/>
            <a:ext cx="2386080" cy="24400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6364440" y="3352680"/>
            <a:ext cx="2093760" cy="3124440"/>
          </a:xfrm>
          <a:prstGeom prst="rect">
            <a:avLst/>
          </a:prstGeom>
          <a:ln w="25560">
            <a:solidFill>
              <a:srgbClr val="ffffff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asuring Intra-Sac Pres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ra-arterial pressure sensors are indicated for measuring intra-sac pressure during endovascular abdominal aortic aneurysm (AAA) repair or thoracic aortic aneurysm (TAA) repai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sure readings taken during the EVAR procedu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-ex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t-ex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Sensor 11C013526 Implant(rev1)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7391520" cy="5545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625760" y="1812960"/>
            <a:ext cx="286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Arial"/>
                <a:ea typeface="Arial"/>
              </a:rPr>
              <a:t>Pre Exclusion=70mmH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57400" y="22860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Pre Balloon=17mmH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909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Post Balloon=11mmH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82960" y="2147760"/>
            <a:ext cx="1440" cy="67176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814480"/>
            <a:ext cx="1440" cy="766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95680" y="2971800"/>
            <a:ext cx="0" cy="7351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tient Selection Cri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rrently, EVAR patients with higher risk anatomy or concern after deployment of the main body de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better data is collected, a broader indication may be reason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30T23:12:37Z</dcterms:created>
  <dc:creator>Pierre Gobin</dc:creator>
  <dc:description/>
  <dc:language>en-US</dc:language>
  <cp:lastModifiedBy>Amy</cp:lastModifiedBy>
  <dcterms:modified xsi:type="dcterms:W3CDTF">2007-10-04T15:08:07Z</dcterms:modified>
  <cp:revision>361</cp:revision>
  <dc:subject/>
  <dc:title>Mechanical Revascularization and Hypothermia: Potential for the Treatment of Ischemic Strok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64667958</vt:r8>
  </property>
  <property fmtid="{D5CDD505-2E9C-101B-9397-08002B2CF9AE}" pid="3" name="_AuthorEmail">
    <vt:lpwstr>Marilu.Hue@cms.hhs.gov</vt:lpwstr>
  </property>
  <property fmtid="{D5CDD505-2E9C-101B-9397-08002B2CF9AE}" pid="4" name="_AuthorEmailDisplayName">
    <vt:lpwstr>Hue, Marilu (CMS/CMM)</vt:lpwstr>
  </property>
  <property fmtid="{D5CDD505-2E9C-101B-9397-08002B2CF9AE}" pid="5" name="_EmailSubject">
    <vt:lpwstr/>
  </property>
  <property fmtid="{D5CDD505-2E9C-101B-9397-08002B2CF9AE}" pid="6" name="_NewReviewCycle">
    <vt:lpwstr/>
  </property>
</Properties>
</file>