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44FCA8-58B5-4C63-872E-96A53D08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D96A7C-BFBD-4A31-B003-B74B39E2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0F80E4-F51B-4053-B10F-8B085FF3F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9B43EB-FF1D-411E-B787-EB79E32F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5F9DF7-CE0F-4562-A23B-7BD5D3150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AFAC9F-767E-4B25-9E38-51BE77577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7AA844-5907-4B7D-9846-1F222B47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420-F02A-4104-86BE-E44A811B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F27-2523-4096-98A8-F4D8C571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B42-FE1F-45CE-A925-62E906F0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546-8910-4C5D-B262-00A544FF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5BC-4BF3-4D1C-AD3B-4630481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206-3CBF-4407-B0FD-F202F0D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939-C095-4F73-AAAC-009BC59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73A-CA76-4C5A-B04F-6B483E28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8A8-C6EF-4FC4-AF4A-44DBBD7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4A8-93D5-4F66-A218-4FCC344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6F0-6D3F-4218-8F49-3072831C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2FB-89B4-405F-BD62-FE66137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02A-433F-415B-A45E-7FBA6DE92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n P. Roddy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er, Health Polic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 for Vascular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e Professor of Surgery, Albany Medic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217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lateral (recommen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d by endograft type, patient anatomy, vessel cond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gical 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267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33804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8600"/>
            <a:ext cx="5181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ain bilateral guidewir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203184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668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main body of stent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1320" y="36338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86200"/>
            <a:ext cx="45720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sheath on contralateral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se wire to locate 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1320" y="52340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5627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additional wire through contralateral sheath next to gate wire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27936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280"/>
            <a:ext cx="51818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sensor over guidewire through contralateral sheath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alibrate sensor and take first rea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981080"/>
            <a:ext cx="5105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Remove contralateral sheath over sensor catheter and gate wire, maintaining sensor position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 contralateral graft limb (or limb delivery sheath) over gate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1320" y="3529080"/>
            <a:ext cx="2334960" cy="15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886200"/>
            <a:ext cx="5105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eploy contralateral limb and fix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Take final sens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361960" cy="159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530680"/>
            <a:ext cx="533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onfirm sensor position, release sensor and remove sensor delivery c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Documentatio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includes in dic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 performed in operating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ternal electronic monitoring equipment to measure pressure/verify appropriate placement of g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 ICD-9-CM codes for placement of a pressure measurement sensor and monitoring intra-arterial pressure during endovascular repair of an aneurysm creates ongoing data 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track procedures clearly in the enco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differentiate EVAR procedures that use pressure measurement 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review and analyze data specific to thes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ortic Aneury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when a weak area of the aorta expands or bul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dominal Aortic Aneurysm (A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racic Aortic Aneurysm (T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65,000 aneurysms repair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vascular aneurysm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7950" t="0" r="0" b="0"/>
          <a:stretch/>
        </p:blipFill>
        <p:spPr>
          <a:xfrm>
            <a:off x="5607000" y="1905120"/>
            <a:ext cx="3156120" cy="35049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vascular Aneurysm Repair (EV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R accounts for the majority of aneurysm repair su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complications / morbidity vs. open surgical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VAR co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l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501" t="0" r="6249" b="0"/>
          <a:stretch/>
        </p:blipFill>
        <p:spPr>
          <a:xfrm>
            <a:off x="4495680" y="2133720"/>
            <a:ext cx="434340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98120" y="51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4800" y="960480"/>
            <a:ext cx="212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6280" y="1473120"/>
          <a:ext cx="8439120" cy="820800"/>
        </p:xfrm>
        <a:graphic>
          <a:graphicData uri="http://schemas.openxmlformats.org/drawingml/2006/table">
            <a:tbl>
              <a:tblPr/>
              <a:tblGrid>
                <a:gridCol w="2084400"/>
                <a:gridCol w="2084400"/>
                <a:gridCol w="2084400"/>
                <a:gridCol w="218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quate Se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teral Ves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lodged or Torn Li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bric Wee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leaks –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958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. Ohki, M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2296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ining 30" descr=""/>
          <p:cNvPicPr/>
          <p:nvPr/>
        </p:nvPicPr>
        <p:blipFill>
          <a:blip r:embed="rId2"/>
          <a:srcRect l="24143" t="0" r="24143" b="0"/>
          <a:stretch/>
        </p:blipFill>
        <p:spPr>
          <a:xfrm>
            <a:off x="1231920" y="2133720"/>
            <a:ext cx="228600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31760"/>
            <a:ext cx="834876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eless pressure sensors were recently introduced to help identify successful aneurysm exclusion following endovascular aneurysm repair (EVAR).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0488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8760" y="4708440"/>
            <a:ext cx="318960" cy="216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284560" y="5105160"/>
            <a:ext cx="318960" cy="21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828800"/>
            <a:ext cx="16160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xim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920" y="4305240"/>
            <a:ext cx="1401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19520" y="5334120"/>
            <a:ext cx="38088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715000"/>
            <a:ext cx="204804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Entry site of Cath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600200"/>
            <a:ext cx="4267080" cy="506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eared by FDA in Novem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iography/CTA provide images which are not definitive about the existence, location or type of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afety – radiation, contrast tox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onvenience (every 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asuring sac pressure provides evidence for successful aneurysm exclusion which should translate into long-term graft stabilit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eharne, et al.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as et al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ra-arterial pressure sensor and electronic monitoring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11292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7920" y="2209680"/>
            <a:ext cx="2386080" cy="2440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64440" y="3352680"/>
            <a:ext cx="2093760" cy="3124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Intra-Sac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-arterial pressure sensors are indicated for measuring intra-sac pressure during endovascular abdominal aortic aneurysm (AAA) repair or thoracic aortic aneurysm (TAA) 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readings taken during the EVAR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nsor 11C013526 Implant(rev1)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5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5760" y="1812960"/>
            <a:ext cx="28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Arial"/>
              </a:rPr>
              <a:t>Pre Exclusion=70mmH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re Balloon=17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ost Balloon=11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2147760"/>
            <a:ext cx="1440" cy="6717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814480"/>
            <a:ext cx="1440" cy="766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971800"/>
            <a:ext cx="0" cy="73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, EVAR patients with higher risk anatomy or concern after deployment of the main bod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etter data is collected, a broader indication may be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12:37Z</dcterms:created>
  <dc:creator>Pierre Gobin</dc:creator>
  <dc:description/>
  <dc:language>en-US</dc:language>
  <cp:lastModifiedBy>Amy</cp:lastModifiedBy>
  <dcterms:modified xsi:type="dcterms:W3CDTF">2007-10-04T15:08:07Z</dcterms:modified>
  <cp:revision>361</cp:revision>
  <dc:subject/>
  <dc:title>Mechanical Revascularization and Hypothermia: Potential for the Treatment of Ischemic Stro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667958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