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77B-4B3E-423C-BF30-2D67FA8B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12B-9000-4C57-B932-5CDAC2B5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6CD-89D2-4EC1-BE7A-A335776D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749-ECEC-40C6-845F-4CDBD007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190-89D5-44E0-96EA-3FB79704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ABA-771D-49F3-874E-CF848F1B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D99-4FC5-40AA-B567-A5CA30C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F61-3FA0-4E1C-943C-E3B32803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505-26D8-4BFC-9449-9F3341AA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BA0-F913-49E4-8CDB-A6BF845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73A-1E75-40AE-B411-B93FD8D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F03-DA99-491E-9795-BF689543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D6C2-B4C3-45B4-9C9C-0129E458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7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2666880"/>
          <a:ext cx="32767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66880"/>
                    <a:ext cx="3276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6320" y="2590920"/>
          <a:ext cx="335268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590920"/>
                    <a:ext cx="3352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0492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7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8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10680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5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9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40 Million (2.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8276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9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10.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30 Million (2.3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Outpatient PPS Expendi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dicare payments increase, the beneficiary co-pay also incre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" y="289080"/>
          <a:ext cx="6781680" cy="32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080"/>
                    <a:ext cx="67816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80880" y="3668760"/>
          <a:ext cx="6477120" cy="318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68760"/>
                    <a:ext cx="64771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121760" y="3733920"/>
            <a:ext cx="62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Service Payment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6320" y="365040"/>
            <a:ext cx="51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APC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05084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jority of the APCs will have higher payments under the final rule than they did in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26708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ing utilization into account, a large majority of the service payments will be hig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957240"/>
          <a:ext cx="3962520" cy="27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7240"/>
                    <a:ext cx="39625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3962520"/>
          <a:ext cx="4267080" cy="267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962520"/>
                    <a:ext cx="42670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0948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Procrit (non-ESRD epoetin al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Lup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Cispla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0" y="880920"/>
          <a:ext cx="4495680" cy="2853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880920"/>
                    <a:ext cx="449568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0" y="3962520"/>
          <a:ext cx="4572000" cy="2654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962520"/>
                    <a:ext cx="4572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95288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Factor vii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1920" y="152280"/>
            <a:ext cx="24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Drug Paymen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2:47:35Z</dcterms:created>
  <dc:creator>Bill Roger</dc:creator>
  <dc:description/>
  <dc:language>en-US</dc:language>
  <cp:lastModifiedBy>CMS</cp:lastModifiedBy>
  <dcterms:modified xsi:type="dcterms:W3CDTF">2002-10-31T17:47:17Z</dcterms:modified>
  <cp:revision>36</cp:revision>
  <dc:subject/>
  <dc:title>PowerPoint Presentation</dc:title>
</cp:coreProperties>
</file>