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204560" y="68904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8DE3-9B73-4627-B4BC-7377F379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024-175B-4739-B8FB-0A297D5BC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0168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742 res = num of res after deleting dups, zres, nonres, etc (artifacts of data colle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486 res = num of  res studied who have at least 1 min of STM.  Deletes poor units and nonres (res not on study uni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,136 res = res with STM and MDS&amp;orRPT.  This is the sample N.  Used for sample weigh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721 = res with Full STM (48 hrs nursing) and have MDS&amp;orRPT.  Used for RUGs (note of these, 14 do not classify due to poor M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for UM internal kickoff staff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ed the note that it is only for individuals present for full week (should be individuals present for 2 nursing days and MDS/R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0348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ose with therapy on PDA days will have their non-PDA time included in weekl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runcation of nurs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weigh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04920" y="689040"/>
            <a:ext cx="4597560" cy="3448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= *SMI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RUG OR ALCOHOL PSYCHOSES/ DEPENDENCE/ NOND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HIZOPHR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FFECTIVE PSYCHOSES (including bipol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RANOI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ONORGANIC PSYC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ONALITY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ORGANIC PSYCHOTIC CON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SYCHOSES ORIGIN CHILD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OREXIA, SLEEP DISORD, EATING DISO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GANIC BRA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PRESSIVE DISORD - (ICD9 OR CHECKBOX) *AND* DRS&gt;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A3E9F-0304-4CD7-A654-395A8E6D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05A0-B7C9-4754-88A8-190292C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F2CAD-E0AC-4552-8C06-588E2D02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6A906-859C-4246-847E-3AAF20C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A87F3-5C92-4B1B-A404-16AC7A0D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8F3D2-6904-4525-A7B0-96F25AB9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51F89-BFCC-4FD8-9D26-F7AA276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20C10-D973-4B61-8844-71B98D23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A42B2-6F96-4BD3-A27F-7863564F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22D13-9E6E-4906-B76B-1A11858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9760-F53D-49DF-AD74-CABC2A78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07CEB-65ED-4157-96B6-47193FCA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1CAE-15E9-4077-AC1B-94ACA51BD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6B52-4394-4AAB-B3F4-696EB20F9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to Vie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some corrections made to these slides since the presentation on 11 March 2009.  In particula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L Index slides (#78-84) have now been changed to be consistent with the planned “Alternative” range of 0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 axis on slide #58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lumn heading on slide #94 has been corr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ddition, we have added an appendix of an extra slide providing additional requested information about our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Procedur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ist states to participate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sampling frame of certified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QI/QM and OSCAR deficiency data to eliminate worst-performing facilities (5-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geographic restrictions (in four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y facilities into st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of 7,237 dru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.2% daily and week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% monthly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8% drugs given once or tw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6% “other”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9% unknown drug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rugs are covered in Medicare Part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dose – how much is used eac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inhalers, salve tubes, “sliding scale” (e.g., insulin, anti-coagula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ily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 drugs provided monthly (0.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cost b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alculating Drug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“AWP” (Average Wholesale Price) in First Data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lowest of 3 Dec 2007 AWPs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lowest cost “generic sequence number” (GSN) for each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drugs administered daily/weekly (92% of prescriptions) and not salves/sliding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average number of times/day drug administered during study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= number times * drug quantity * A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 across drugs for 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criptive Statistics on Number and Cost of Drugs*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57200" y="1600200"/>
          <a:ext cx="8229600" cy="3649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 of Prescrip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 Drug Cost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34.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14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6.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421.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461160" y="5511960"/>
            <a:ext cx="4150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Only Daily and Weekly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2 high outlier costs o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ariance Explanation of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5200" y="5257800"/>
            <a:ext cx="797616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: 395 Residents with MAR data, Full STM (48 hrs), MDS, and RUG classified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high outlier costs omit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609480" y="1752480"/>
          <a:ext cx="7848720" cy="3578400"/>
        </p:xfrm>
        <a:graphic>
          <a:graphicData uri="http://schemas.openxmlformats.org/drawingml/2006/table">
            <a:tbl>
              <a:tblPr/>
              <a:tblGrid>
                <a:gridCol w="4114800"/>
                <a:gridCol w="2514600"/>
                <a:gridCol w="1219320"/>
              </a:tblGrid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dictive 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nce Expla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+ 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CM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PS Sc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ident Daily Drug Cost Mean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RUG Group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228600" y="1752480"/>
          <a:ext cx="86868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357840" y="5715000"/>
            <a:ext cx="75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: 395 Residents, see before.  Open symbols represent points with &lt;5 observ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ghest Daily Drug Cost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839880" y="1752480"/>
          <a:ext cx="722772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227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365760" y="5802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unt of Daily and Weekly Drugs by Total Daily Drug Co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914400" y="1905120"/>
          <a:ext cx="7613640" cy="39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61364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94360" y="595476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=3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s do not explain drug cost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aily drug cost from one (or 2) high cost drugs, not high number of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ampling Procedures (cont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nitial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arget number of facilities for each stratum within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ver-sample within each str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lists reviewed by State agencies and CMS regional offices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poor quality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ies with special problems (emergencies, recent change of ownership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nea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PPENDIX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0" y="0"/>
          <a:ext cx="502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0"/>
                    <a:ext cx="502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-1600200" y="-685800"/>
          <a:ext cx="107442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-685800"/>
                    <a:ext cx="107442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523880"/>
          <a:ext cx="7315200" cy="4343040"/>
        </p:xfrm>
        <a:graphic>
          <a:graphicData uri="http://schemas.openxmlformats.org/drawingml/2006/table">
            <a:tbl>
              <a:tblPr/>
              <a:tblGrid>
                <a:gridCol w="3932280"/>
                <a:gridCol w="1644480"/>
                <a:gridCol w="173844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opulation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 of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ified facilities -15 st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exclusions (poor qualit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wide elig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outside of geographic study areas (FL, IL, LA, T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le facilities in stud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397160"/>
          <a:ext cx="7315200" cy="4644720"/>
        </p:xfrm>
        <a:graphic>
          <a:graphicData uri="http://schemas.openxmlformats.org/drawingml/2006/table">
            <a:tbl>
              <a:tblPr/>
              <a:tblGrid>
                <a:gridCol w="4343400"/>
                <a:gridCol w="1695600"/>
                <a:gridCol w="127620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ligible Facilities by 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rat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-b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H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-Part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0720" y="1905120"/>
          <a:ext cx="7619760" cy="3382920"/>
        </p:xfrm>
        <a:graphic>
          <a:graphicData uri="http://schemas.openxmlformats.org/drawingml/2006/table">
            <a:tbl>
              <a:tblPr/>
              <a:tblGrid>
                <a:gridCol w="4495680"/>
                <a:gridCol w="1809720"/>
                <a:gridCol w="1314360"/>
              </a:tblGrid>
              <a:tr h="67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te/Regional Office Review Resul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ly selected for revi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minated by State agencies/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S regional offi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ing: eligible for invi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acility Sample Fulfill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752480"/>
          <a:ext cx="7543800" cy="3484800"/>
        </p:xfrm>
        <a:graphic>
          <a:graphicData uri="http://schemas.openxmlformats.org/drawingml/2006/table">
            <a:tbl>
              <a:tblPr/>
              <a:tblGrid>
                <a:gridCol w="4191120"/>
                <a:gridCol w="1938240"/>
                <a:gridCol w="1414440"/>
              </a:tblGrid>
              <a:tr h="581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y 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cil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it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ed to particip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 with completed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Weigh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weights correct for unequal selection probabil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ility of selection for each facility is product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Probability facility selected for initial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Probability facility selected for inclusion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Probability each resident within facility included in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weight = inverse of probability, scaled to samp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s various factors are rand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facility refusals, unit sele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son with population on selected variables increases confidence in sampling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51400"/>
            <a:ext cx="2590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IVE TEP March 11,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4648320" y="624852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argin of Error: Mean Staff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676520"/>
          <a:ext cx="7848720" cy="375912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gro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/97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Projec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V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Medicare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5"/>
          <p:cNvSpPr/>
          <p:nvPr/>
        </p:nvSpPr>
        <p:spPr>
          <a:xfrm>
            <a:off x="685800" y="57150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te:  Margins of error reflect expected sampling error for mean staff time with the effect of case mix removed.  Margins of error based upon 95% confidence interv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cedures in Facilit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ed using PDA (2 days nursing, 3 days therapy)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 tools (7 days therap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ursing, therapy, and ancillary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termined protocol for unit selection based on facility size selected entire facility or entir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ty population units, if appl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-Part A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ing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“supplemental un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VE M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MDS 2.0 and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ssembling Analytic Databas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Collection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 w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DS Repository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Part A resid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l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ample de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therap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Sample Determination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sidents Used for CMI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5640" y="190512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48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30481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,136 Study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MDS/R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648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,721 Study Residents with MDS/RPT and 48 hrs of Nursing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51460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0384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724280"/>
            <a:ext cx="1143000" cy="45720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Therapy Adjustments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ed with paper (vs. PDAs) appears in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upervi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ifferent staff on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match national distribution of RUG-III rehabilitatio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justing Therapy Tim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371600"/>
          <a:ext cx="8534160" cy="3913200"/>
        </p:xfrm>
        <a:graphic>
          <a:graphicData uri="http://schemas.openxmlformats.org/drawingml/2006/table">
            <a:tbl>
              <a:tblPr/>
              <a:tblGrid>
                <a:gridCol w="1600200"/>
                <a:gridCol w="990360"/>
                <a:gridCol w="762120"/>
                <a:gridCol w="762120"/>
                <a:gridCol w="838080"/>
                <a:gridCol w="762120"/>
                <a:gridCol w="685800"/>
                <a:gridCol w="685800"/>
                <a:gridCol w="838080"/>
                <a:gridCol w="6094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ction Schedu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5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9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31360" y="54864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ding: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PDA data collec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Paper data coll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19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te: Analysis includes only individuals present for full 7 days of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106640"/>
          <a:ext cx="8610480" cy="52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06640"/>
                    <a:ext cx="8610480" cy="52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justment Method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time for each disciplin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Therapy, Occupational Therapy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-Language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verage therapy s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PDA days where 15+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number of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days of 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PDA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non-PDA weekend days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 15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justed weekly therapy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weekly therapy minute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verage therapy session) x (Days of therap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rmining Therapy Times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828800"/>
          <a:ext cx="8610480" cy="19591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609840"/>
                <a:gridCol w="609480"/>
                <a:gridCol w="609480"/>
                <a:gridCol w="457200"/>
                <a:gridCol w="609840"/>
                <a:gridCol w="609480"/>
                <a:gridCol w="990720"/>
                <a:gridCol w="990360"/>
                <a:gridCol w="990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 Therapy se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 15+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753200" y="396252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AYS of THERAPY*=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STED WEEKLY MINUTES  =  5 x 42= 210 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600" y="2971800"/>
            <a:ext cx="1676160" cy="1676160"/>
            <a:chOff x="5943600" y="2971800"/>
            <a:chExt cx="1676160" cy="1676160"/>
          </a:xfrm>
        </p:grpSpPr>
        <p:sp>
          <p:nvSpPr>
            <p:cNvPr id="175" name=""/>
            <p:cNvSpPr/>
            <p:nvPr/>
          </p:nvSpPr>
          <p:spPr>
            <a:xfrm>
              <a:off x="5943600" y="4088880"/>
              <a:ext cx="332640" cy="5590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76440" y="2971800"/>
              <a:ext cx="1543320" cy="1117080"/>
            </a:xfrm>
            <a:custGeom>
              <a:avLst/>
              <a:gdLst/>
              <a:ahLst/>
              <a:rect l="l" t="t" r="r" b="b"/>
              <a:pathLst>
                <a:path w="1152" h="576">
                  <a:moveTo>
                    <a:pt x="0" y="576"/>
                  </a:moveTo>
                  <a:lnTo>
                    <a:pt x="0" y="288"/>
                  </a:lnTo>
                  <a:lnTo>
                    <a:pt x="1152" y="288"/>
                  </a:lnTo>
                  <a:lnTo>
                    <a:pt x="115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470560" y="3505320"/>
            <a:ext cx="3292560" cy="1143000"/>
            <a:chOff x="5470560" y="3505320"/>
            <a:chExt cx="3292560" cy="1143000"/>
          </a:xfrm>
        </p:grpSpPr>
        <p:sp>
          <p:nvSpPr>
            <p:cNvPr id="178" name=""/>
            <p:cNvSpPr/>
            <p:nvPr/>
          </p:nvSpPr>
          <p:spPr>
            <a:xfrm>
              <a:off x="5470560" y="3962520"/>
              <a:ext cx="377640" cy="6858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43440" y="3505320"/>
              <a:ext cx="3019680" cy="533160"/>
            </a:xfrm>
            <a:custGeom>
              <a:avLst/>
              <a:gdLst/>
              <a:ahLst/>
              <a:rect l="l" t="t" r="r" b="b"/>
              <a:pathLst>
                <a:path w="1872" h="528">
                  <a:moveTo>
                    <a:pt x="0" y="528"/>
                  </a:moveTo>
                  <a:lnTo>
                    <a:pt x="1872" y="528"/>
                  </a:lnTo>
                  <a:lnTo>
                    <a:pt x="1872" y="0"/>
                  </a:lnTo>
                </a:path>
              </a:pathLst>
            </a:custGeom>
            <a:noFill/>
            <a:ln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tting National Distribution: Part A Claim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djusted Therapy Tim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152360"/>
          <a:ext cx="876312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52360"/>
                    <a:ext cx="87631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Project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k Thompson, Program Directo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ffect of Therapy Adjustment on Normalized Therapy WWS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djusted and raw therapy WW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therapy CMIs” by normalizing therapy wage-weighted 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“therapy CMIs” for NFs where the therapy collection appeared consistent across the entire we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collection on unsupervised days was &gt;50% of supervised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8280" y="1846440"/>
          <a:ext cx="8310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846440"/>
                    <a:ext cx="8310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609480" y="6019920"/>
            <a:ext cx="7423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therapy collection on unsupervised days was &gt;50% of the supervised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66760" y="1600200"/>
          <a:ext cx="84582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4582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arison of Normalized Therapy WWST: Adjusted vs. Raw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343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1814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019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62940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8680" y="15238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5600" y="15238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4479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182880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791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5520" y="3581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733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88620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4343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92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920" y="31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3400" y="32767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3400" y="3809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3962520"/>
            <a:ext cx="762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36554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78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32004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3733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3200400"/>
            <a:ext cx="8380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7800"/>
            <a:ext cx="27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6240" y="4952880"/>
            <a:ext cx="294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    = 30 minutes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1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5029200"/>
            <a:ext cx="270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nallocated= 30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ocated = 30 minutes/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 7.5 min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ividual, Concurrent &amp; Group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 rot="10800000">
            <a:off x="2285640" y="6248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Therapi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5760" y="62485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=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960" y="2286000"/>
            <a:ext cx="203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ly 1 resi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60120" y="220968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erent moda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8240" y="213372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rapist works w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+ resident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 mod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ndividual, Concurrent &amp; Group Time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rapy Time: Summar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y adjus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national Part A distribution of RUG-III rehabilit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ll information colle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DS, PDA, paper to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 maximum likely therapy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urrent therapy frequently uti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itial RUG-53 Nursing Relative Weights (STRIVE)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s. Current Unadjusted SNF Nursing CMI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9800" y="1263600"/>
          <a:ext cx="84582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263600"/>
                    <a:ext cx="84582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liminary Analysi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ariance Explanation of RUG-53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04720" y="1440000"/>
          <a:ext cx="8258400" cy="435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440000"/>
                    <a:ext cx="82584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03200" y="5935680"/>
            <a:ext cx="462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 (N=6454 residents) vs. validation (N=3253) s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alyses use only analytic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replicated on validation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when have small sample s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and sample weights to derive case-mix indexes (CM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dependent variable: wage-weighted staff time = “WW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normalized to average CNA sa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ed both (nursing+therapy) and nur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, similar results obtained for log WW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te: WWST are no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WWSTs (analytic sampl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8.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ing + Therap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.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displaying portion of analyses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analyses inte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Refinement to “upper” RUG hierarchy affects “lower”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ication: Use caution in comparing analyses performed at different stages of mode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tes About Analy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made on multiple crite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iance expla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antiality of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verall range of group 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groups more homoge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differences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on of results in prior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items vulnerable to “gam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 selecte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impact on Medic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28600" y="990720"/>
          <a:ext cx="3809880" cy="4778280"/>
        </p:xfrm>
        <a:graphic>
          <a:graphicData uri="http://schemas.openxmlformats.org/drawingml/2006/table">
            <a:tbl>
              <a:tblPr/>
              <a:tblGrid>
                <a:gridCol w="2444760"/>
                <a:gridCol w="13651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zheim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Schizophren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Bipo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MI- 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der Age 18 y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4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-64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iratory 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343400" y="990720"/>
          <a:ext cx="4572000" cy="4778280"/>
        </p:xfrm>
        <a:graphic>
          <a:graphicData uri="http://schemas.openxmlformats.org/drawingml/2006/table">
            <a:tbl>
              <a:tblPr/>
              <a:tblGrid>
                <a:gridCol w="3024360"/>
                <a:gridCol w="15476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sid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ctio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/Verbal  Ab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r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emotherap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umatic Brain Inju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rgical Wound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aly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UG 44- BA/B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riatric (weight ≥ 300lb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n (&gt; no pai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2135160" y="152280"/>
            <a:ext cx="550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pecial Populations Ident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Pain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in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48512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five pain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Pain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Resident Pain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Facility Pain Indi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nbach’s Alpha: 0.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3.0 Combined Pain interview and Facility Pain s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sident can self report on pain then use Pain interview scale. Otherwise, use Facility Pain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item – in STRIVE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ariance Explanation (VE) of Pain Scal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762120" y="1600200"/>
          <a:ext cx="7924680" cy="4356000"/>
        </p:xfrm>
        <a:graphic>
          <a:graphicData uri="http://schemas.openxmlformats.org/drawingml/2006/table">
            <a:tbl>
              <a:tblPr/>
              <a:tblGrid>
                <a:gridCol w="1881000"/>
                <a:gridCol w="1473120"/>
                <a:gridCol w="1473480"/>
                <a:gridCol w="1471320"/>
                <a:gridCol w="1625760"/>
              </a:tblGrid>
              <a:tr h="613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t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apy+Nursing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(RUG+Pai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 of RU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(RUG+Pain)-VE(RU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S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0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y P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Interview Fac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4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in Contr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sted Pain Control Item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 CONTROL (Note: Always ask the person about pain frequency, intensity, and control.  Observe person and ask others who are in contact with the pers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cy of current therapeutic regimen to control pain (from person’s point of view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 for the last 3 d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No issue of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= Pain intensity acceptable to person, no treatment regimen or change in regimen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= Controlled adequately by therapeutic reg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= Controlled when therapeutic regimen followed, but not always followed as or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= Therapeutic regimen followed, but pain control not adequ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= No therapeutic regimen being followed for pain; pain not adequately 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variance explanation for RUG 53 res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 pain measures identify different individu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clear how to implement pain scale into 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itiatives will address pain, e.g., as part of quality monit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efining RUG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y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tiar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Structure of 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9907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6615360" y="87480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33520"/>
            <a:ext cx="76212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59092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tensive Services - Main Issu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 vs. Post-admission Extens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Extensiv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l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- vs. Post-admission Extensive Servi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re significant differences in resource use among early-stay residents who receiv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admission extensive service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admission extensiv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2 residents with days of stay ≤7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umbers of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30120" y="1225440"/>
          <a:ext cx="8864640" cy="39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225440"/>
                    <a:ext cx="886464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ean Nursing WWST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y Pre/Post Extensive Servic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11040" y="1857240"/>
          <a:ext cx="8701200" cy="39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1857240"/>
                    <a:ext cx="87012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567720" y="593100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of individuals with LOS&lt;=7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Extensive Services Category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su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items used to qualify for extensive services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extensive services count work to split the extensive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503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G-III Extensive Services Cou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09480" y="1752480"/>
          <a:ext cx="7848720" cy="4206960"/>
        </p:xfrm>
        <a:graphic>
          <a:graphicData uri="http://schemas.openxmlformats.org/drawingml/2006/table">
            <a:tbl>
              <a:tblPr/>
              <a:tblGrid>
                <a:gridCol w="4232520"/>
                <a:gridCol w="2014560"/>
                <a:gridCol w="1601640"/>
              </a:tblGrid>
              <a:tr h="42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Qualif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cou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eral/IV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med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ctio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heostom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ilator/Respira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Special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linically Compl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fy for Cognitive Impair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 ≥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tensive Services WWS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 RUG-III Count and Item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523880"/>
          <a:ext cx="82296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96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mmary of Analysis of Extensive Services Category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admission extensive services more resource intensive than pre-admission; pre-admission similar to “no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eral feeding and IV meds have lower resource use than other Extensiv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Extensive Services count (including qualifiers of major categories) not effec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3124080"/>
            <a:ext cx="83844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ng RUG-III Special Care Qualifi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06320" y="1657440"/>
          <a:ext cx="7828200" cy="45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657440"/>
                    <a:ext cx="78282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aluating RUG-III Clinically Complex Qualifier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14240" y="1236600"/>
          <a:ext cx="778212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236600"/>
                    <a:ext cx="778212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RIVE Background Review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nursing hom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– Spring ’06 – Summer ‘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, therapy, and ancillary staff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digital assistants (PDAs) with paper tool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S 2.0 with one-third “grayed out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VE MDS addend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– ong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4343400"/>
            <a:ext cx="762120" cy="1828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Hierarchy Categori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Hierarc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hysic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istribution of RUG-III Lower Hierarchy Group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60440" y="1600200"/>
          <a:ext cx="845172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4517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reasons to combine or retain Behavior categ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was not a predictor of resource use.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s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ADL Scale be improved 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residents get similar scores (f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res are more proportional to impairment (linear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54 residents in the derivation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L Sca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UG-III for splits of each Major Group except for ‘Extensive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4 AD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ile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ting, including ‘Feeding’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eral/IV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ing Tube nutr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50% daily calorie intake 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&gt;25% daily calorie intake and &gt;500cc daily fluid inta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380880"/>
            <a:ext cx="6094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523880"/>
            <a:ext cx="53316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200400"/>
            <a:ext cx="6858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19520" y="36576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19520" y="441972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4876920"/>
            <a:ext cx="609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5715000"/>
            <a:ext cx="6094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25920" y="30481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te: Also used 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tegory qua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ed mobility, Transfer, Toilet us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831600"/>
                <a:gridCol w="846360"/>
                <a:gridCol w="819000"/>
              </a:tblGrid>
              <a:tr h="446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Ls to Scale Values</a:t>
            </a:r>
            <a:br>
              <a:rPr sz="40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ating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57200" y="1600200"/>
          <a:ext cx="3995280" cy="4525560"/>
        </p:xfrm>
        <a:graphic>
          <a:graphicData uri="http://schemas.openxmlformats.org/drawingml/2006/table">
            <a:tbl>
              <a:tblPr/>
              <a:tblGrid>
                <a:gridCol w="1498320"/>
                <a:gridCol w="832320"/>
                <a:gridCol w="845640"/>
                <a:gridCol w="81900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5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Including Parenteral/IV/Tube Fee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691160" y="1600200"/>
          <a:ext cx="3995640" cy="4129200"/>
        </p:xfrm>
        <a:graphic>
          <a:graphicData uri="http://schemas.openxmlformats.org/drawingml/2006/table">
            <a:tbl>
              <a:tblPr/>
              <a:tblGrid>
                <a:gridCol w="1498680"/>
                <a:gridCol w="755640"/>
                <a:gridCol w="871200"/>
                <a:gridCol w="870120"/>
              </a:tblGrid>
              <a:tr h="446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per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pendent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vi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 Assis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514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ing Goal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ility-based sample that can be generalized to the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election of facilities and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mber of population has a known probability of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-sample important special populations to support case mix analy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ore Linear; More Respon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52280" y="1447920"/>
          <a:ext cx="4051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4051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733920" y="1371600"/>
          <a:ext cx="455436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371600"/>
                    <a:ext cx="45543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3657600"/>
          <a:ext cx="384336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657600"/>
                    <a:ext cx="3843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352680" y="3505320"/>
          <a:ext cx="5600880" cy="27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3505320"/>
                    <a:ext cx="5600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80880" y="5943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arenteral, IV, and Tube Feed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RUG-III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ing” not needed when use Eating Sup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djustment, little difference with vs. without “feed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ing” residents vary greatly in Eating Performance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without “feeding” as qualifier, 82% place at an equal or higher Scale Weight as with the Current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lternative ADL Index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of scale values for 4 AD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ranges from 0-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ed Fi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More homogeneous)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1371600"/>
          <a:ext cx="78487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21920" y="2362320"/>
            <a:ext cx="225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rrent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:    1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ternative R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:  11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77240" y="5065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1400" y="30481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609588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Greater Range,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Flatter Distribu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371600"/>
          <a:ext cx="7925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25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12440" y="3352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5080" y="4572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ltern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9360" y="340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019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for comparative purposes, Original scoring is scaled from 0-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ierarchy Categories - Approach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DL Thresholds for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ary Spli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L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categ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all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 of “below” category qualif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e as strong as ADL splits, or useful after ADL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UG-III ADL Cut Points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685800"/>
          <a:ext cx="8548920" cy="5691240"/>
        </p:xfrm>
        <a:graphic>
          <a:graphicData uri="http://schemas.openxmlformats.org/drawingml/2006/table">
            <a:tbl>
              <a:tblPr/>
              <a:tblGrid>
                <a:gridCol w="1447920"/>
                <a:gridCol w="979560"/>
                <a:gridCol w="468360"/>
                <a:gridCol w="412560"/>
                <a:gridCol w="333360"/>
                <a:gridCol w="397080"/>
                <a:gridCol w="480960"/>
                <a:gridCol w="563400"/>
                <a:gridCol w="638280"/>
                <a:gridCol w="385920"/>
                <a:gridCol w="469800"/>
                <a:gridCol w="431640"/>
                <a:gridCol w="381240"/>
                <a:gridCol w="610920"/>
                <a:gridCol w="182520"/>
                <a:gridCol w="365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-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368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514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8720">
                      <a:solidFill>
                        <a:srgbClr val="000514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 Funct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000514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8720">
                      <a:solidFill>
                        <a:srgbClr val="000514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514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ossible ADL Cut Point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295280" y="762120"/>
          <a:ext cx="7010640" cy="5473440"/>
        </p:xfrm>
        <a:graphic>
          <a:graphicData uri="http://schemas.openxmlformats.org/drawingml/2006/table">
            <a:tbl>
              <a:tblPr/>
              <a:tblGrid>
                <a:gridCol w="1927440"/>
                <a:gridCol w="1577880"/>
                <a:gridCol w="701640"/>
                <a:gridCol w="579600"/>
                <a:gridCol w="674640"/>
                <a:gridCol w="760320"/>
                <a:gridCol w="789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-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+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ltra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nsiv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ally Comple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havi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ed Physic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sonable to use ADL as secondary split (except for Extensive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it reasonable to restrict structure of ADL spl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ample Desig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tage cluster sample within eac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ified random sample of facilities (selected with probability proportional to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ed unit(s) within each facility for inclusion in time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a (over-sample special popula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-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ventilator res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2%+ ventilator/ respirator reside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HIV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0%+ HIV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ncentration of Medicare resi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0%+ Part A resi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other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1219320" y="-1295280"/>
          <a:ext cx="563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-1295280"/>
                    <a:ext cx="563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936120" y="83808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RUG-III 53-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Arial"/>
                <a:ea typeface="Arial"/>
              </a:rPr>
              <a:t>(Version 5.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3429000"/>
            <a:ext cx="68580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4267080"/>
            <a:ext cx="838440" cy="2210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fining RUGs – Tertiary Spli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used in RUG-III as tertiary split for Clinically Complex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was not large, not 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evidence that this finding will be rep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based on MDS 2.0 “Depression Rating Sca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523880"/>
          <a:ext cx="7848720" cy="55468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97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s the following (primarily: 2+ activities provided 6+ days for 15+ min.)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sive range of motion (p3a) or active range of motion (p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d mobility (p3d) or walking (p3f) trai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lint or brace assistance (p3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er training (p3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essing or grooming training (p3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ating or swallowing training (p3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putation/prosthesis care (p3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 training (p3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b">
                      <a:noAutofit/>
                    </a:bodyPr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heduled toileting plan (h3a) or bladder retraining program (h3b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buClr>
                          <a:srgbClr val="ffffff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280" y="2057400"/>
          <a:ext cx="8839440" cy="2895480"/>
        </p:xfrm>
        <a:graphic>
          <a:graphicData uri="http://schemas.openxmlformats.org/drawingml/2006/table">
            <a:tbl>
              <a:tblPr/>
              <a:tblGrid>
                <a:gridCol w="1947960"/>
                <a:gridCol w="898560"/>
                <a:gridCol w="1422360"/>
                <a:gridCol w="1370160"/>
                <a:gridCol w="1550880"/>
                <a:gridCol w="1649520"/>
              </a:tblGrid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Category WW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WWST 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ificant difference 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ir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amp;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9840" y="548640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UG-III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rsing Rehabilitation Splits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xampl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762120" y="1752480"/>
          <a:ext cx="7391160" cy="3929040"/>
        </p:xfrm>
        <a:graphic>
          <a:graphicData uri="http://schemas.openxmlformats.org/drawingml/2006/table">
            <a:tbl>
              <a:tblPr/>
              <a:tblGrid>
                <a:gridCol w="2803320"/>
                <a:gridCol w="1540080"/>
                <a:gridCol w="1066680"/>
                <a:gridCol w="198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G 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sing Rehabili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Nursing WW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estions for Panel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nursing rehabilitation be retained as a split for the lower categori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Design / Sampling /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mbling the Analytic Data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apy I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liminary Analytic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Care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ing 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p /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le to obtain drug profiles at time of STM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Medication Administration Records (MARs) – 56 facilities in 14 states respo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-keyed Medicare 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key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DC code (look-u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, dose,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dministered during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drug data from resident MAR forms for week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7.9% of Residents are Par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428 residents with STR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 facil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 states plus D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237 drug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6.9 drugs per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ncludes TB tests, vitami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9-03-18T13:49:38Z</dcterms:modified>
  <cp:revision>266</cp:revision>
  <dc:subject/>
  <dc:title>STRIV fka NNHTS</dc:title>
</cp:coreProperties>
</file>