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3.wmf" ContentType="image/x-wmf"/>
  <Override PartName="/ppt/media/image9.png" ContentType="image/png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6.xml.rels" ContentType="application/vnd.openxmlformats-package.relationships+xml"/>
  <Override PartName="/ppt/slides/_rels/slide106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</p:sldIdLst>
  <p:sldSz cx="9144000" cy="6858000"/>
  <p:notesSz cx="6997700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998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2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6"/>
          </p:nvPr>
        </p:nvSpPr>
        <p:spPr>
          <a:xfrm>
            <a:off x="3963600" y="-360"/>
            <a:ext cx="3032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204560" y="689040"/>
            <a:ext cx="45975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7"/>
          </p:nvPr>
        </p:nvSpPr>
        <p:spPr>
          <a:xfrm>
            <a:off x="-360" y="8732520"/>
            <a:ext cx="3032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8"/>
          </p:nvPr>
        </p:nvSpPr>
        <p:spPr>
          <a:xfrm>
            <a:off x="3963600" y="8732520"/>
            <a:ext cx="3032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014E-A2B0-4F0A-9F9C-9DF46F748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963960" y="8732880"/>
            <a:ext cx="3032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E07F-9996-4473-A8E3-77640FF5B2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20348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01680" y="689040"/>
            <a:ext cx="4597560" cy="34480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,742 res = num of res after deleting dups, zres, nonres, etc (artifacts of data collec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,486 res = num of  res studied who have at least 1 min of STM.  Deletes poor units and nonres (res not on study unit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,136 res = res with STM and MDS&amp;orRPT.  This is the sample N.  Used for sample weigh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,721 = res with Full STM (48 hrs nursing) and have MDS&amp;orRPT.  Used for RUGs (note of these, 14 do not classify due to poor M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204920" y="689040"/>
            <a:ext cx="4597560" cy="344808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ed for UM internal kickoff staff mee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ed the note that it is only for individuals present for full week (should be individuals present for 2 nursing days and MDS/R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20348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ose with therapy on PDA days will have their non-PDA time included in weekly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04920" y="689040"/>
            <a:ext cx="4597560" cy="34480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weigh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runcation of nursing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204920" y="689040"/>
            <a:ext cx="4597560" cy="344808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weigh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204920" y="689040"/>
            <a:ext cx="4597560" cy="344808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I= *SMI includ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RUG OR ALCOHOL PSYCHOSES/ DEPENDENCE/ NOND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FFECTIVE PSYCHOSES (including bipol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ARANOID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THER NONORGANIC PSYCH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RSONALITY DIS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THER ORGANIC PSYCHOTIC CON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SYCHOSES ORIGIN CHILDH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OREXIA, SLEEP DISORD, EATING DISOR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RGANIC BRAIN DA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PRESSIVE DISORD - (ICD9 OR CHECKBOX) *AND* DRS&gt;=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A10B4-6CE7-4A0F-9FD2-C055E7EB0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ACF16-F88A-4728-8EA1-E6D1480C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88043B-3481-4537-AC6B-AD540829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BE243-F7F2-435A-91A6-E3DC985F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8595B-C5DD-48DD-B39F-F4E5C430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B76ED6-B86A-48D8-A7E6-494A7329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F66E9-3E30-4A3E-ADD0-7DBA9E15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5206A-0B92-4E47-8F7B-DEF21587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83F476-6509-4FD5-ACA9-4030F387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5C29E-FFBD-428C-93F9-38D627C5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3FAC4-34F2-4496-A3E4-8CFE08B60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E49D2D-23C0-4AEE-8E9B-2FCACB624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590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IVE TEP March 11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4648320" y="6248160"/>
            <a:ext cx="4038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owa Foundation for Medical 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Notice: These materials are in the public domain and cannot be copyright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038480" y="624852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498B-8E0D-488E-938E-A861AB4D3F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A124-FD3C-4FE2-8999-8B87FF1EBF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STRIVE@IFMC.ORG" TargetMode="External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STRIVE@IFMC.ORG" TargetMode="External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otes to Viewer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have been some corrections made to these slides since the presentation on 11 March 2009.  In particula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DL Index slides (#78-84) have now been changed to be consistent with the planned “Alternative” range of 0-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eft axis on slide #58 has been corr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lumn heading on slide #94 has been corr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ddition, we have added an appendix of an extra slide providing additional requested information about our s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ampling Procedur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 po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list states to participate in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sampling frame of certified fac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QI/QM and OSCAR deficiency data to eliminate worst-performing facilities (5-10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y geographic restrictions (in four stat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ify facilities into str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rug Data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tal of 7,237 drug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2.2% daily and weekly dr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.1% monthly dr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8% drugs given once or tw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.6% “other” dr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9% unknown drug frequ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su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drugs are covered in Medicare Part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ily dose – how much is used each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s: inhalers, salve tubes, “sliding scale” (e.g., insulin, anti-coagulan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ily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s: drugs provided monthly (0.1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ion of cost b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alculating Drug Cost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“AWP” (Average Wholesale Price) in First DataBa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lowest of 3 Dec 2007 AWPs for each dr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lowest cost “generic sequence number” (GSN) for each dr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only drugs administered daily/weekly (92% of prescriptions) and not salves/sliding sc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 average number of times/day drug administered during study we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 = number times * drug quantity * AW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 across drugs for resi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Descriptive Statistics on Number and Cost of Drugs*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457200" y="1600200"/>
          <a:ext cx="8229600" cy="3649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2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ist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 of Prescript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ily Drug Cost*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.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34.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14.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5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56.4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imu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0.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ximu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421.9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0" name=""/>
          <p:cNvSpPr/>
          <p:nvPr/>
        </p:nvSpPr>
        <p:spPr>
          <a:xfrm>
            <a:off x="461160" y="5511960"/>
            <a:ext cx="41508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s: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Only Daily and Weekly Dru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*2 high outlier costs omit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Variance Explanation of Daily Drug Cos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75200" y="5257800"/>
            <a:ext cx="7976160" cy="9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te: 395 Residents with MAR data, Full STM (48 hrs), MDS, and RUG classified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 high outlier costs omit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609480" y="1752480"/>
          <a:ext cx="7848720" cy="3578400"/>
        </p:xfrm>
        <a:graphic>
          <a:graphicData uri="http://schemas.openxmlformats.org/drawingml/2006/table">
            <a:tbl>
              <a:tblPr/>
              <a:tblGrid>
                <a:gridCol w="4114800"/>
                <a:gridCol w="2514600"/>
                <a:gridCol w="1219320"/>
              </a:tblGrid>
              <a:tr h="94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dictive Vari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nce Explan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apy + Nursing CM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rsing CM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PS Sca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L Inde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Resident Daily Drug Cost Mean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y RUG Group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228600" y="1752480"/>
          <a:ext cx="8686800" cy="350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52480"/>
                    <a:ext cx="8686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"/>
          <p:cNvSpPr/>
          <p:nvPr/>
        </p:nvSpPr>
        <p:spPr>
          <a:xfrm>
            <a:off x="357840" y="5715000"/>
            <a:ext cx="751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te: 395 Residents, see before.  Open symbols represent points with &lt;5 observ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Highest Daily Drug Cost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y Total Daily Drug Cos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839880" y="1752480"/>
          <a:ext cx="7227720" cy="40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1752480"/>
                    <a:ext cx="722772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"/>
          <p:cNvSpPr/>
          <p:nvPr/>
        </p:nvSpPr>
        <p:spPr>
          <a:xfrm>
            <a:off x="365760" y="5802480"/>
            <a:ext cx="70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=39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ount of Daily and Weekly Drugs by Total Daily Drug Cos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914400" y="1905120"/>
          <a:ext cx="7613640" cy="398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761364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6" name=""/>
          <p:cNvSpPr/>
          <p:nvPr/>
        </p:nvSpPr>
        <p:spPr>
          <a:xfrm>
            <a:off x="594360" y="5954760"/>
            <a:ext cx="70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=39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Conclusions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Gs do not explain drug cost w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daily drug cost from one (or 2) high cost drugs, not high number of dru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come &amp; Introdu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Design / Sampling / Data Col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mbling the Analytic Data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apy Impu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liminary Analytic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Care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popu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ing 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ecap / Next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r Comment Peri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o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Sampling Procedures (cont)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 initial s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e target number of facilities for each stratum within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over-sample within each strat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ple lists reviewed by State agencies and CMS regional offices to ident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itional poor quality fac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ilities with special problems (emergencies, recent change of ownership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Open Discussion - Observer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ase take a position in line nea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ront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ase limit questions and comment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2 min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34612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Thank you </a:t>
            </a:r>
            <a:br>
              <a:rPr sz="6000"/>
            </a:b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for your participation </a:t>
            </a:r>
            <a:br>
              <a:rPr sz="6000"/>
            </a:b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&amp;</a:t>
            </a:r>
            <a:br>
              <a:rPr sz="6000"/>
            </a:b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attendance</a:t>
            </a:r>
            <a:endParaRPr b="1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APPENDIX</a:t>
            </a:r>
            <a:endParaRPr b="1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6" name=""/>
          <p:cNvGraphicFramePr/>
          <p:nvPr/>
        </p:nvGraphicFramePr>
        <p:xfrm>
          <a:off x="2286000" y="0"/>
          <a:ext cx="5029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0"/>
                    <a:ext cx="5029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-1600200" y="-685800"/>
          <a:ext cx="10744200" cy="67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600200" y="-685800"/>
                    <a:ext cx="10744200" cy="67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Facility Sample Fulfillmen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914400" y="1523880"/>
          <a:ext cx="7315200" cy="4343040"/>
        </p:xfrm>
        <a:graphic>
          <a:graphicData uri="http://schemas.openxmlformats.org/drawingml/2006/table">
            <a:tbl>
              <a:tblPr/>
              <a:tblGrid>
                <a:gridCol w="3932280"/>
                <a:gridCol w="1644480"/>
                <a:gridCol w="1738440"/>
              </a:tblGrid>
              <a:tr h="95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opulation Gro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Facilit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ercent of 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rtified facilities -15 sta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4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.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exclusions (poor quality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ewide eligib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9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1.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ilities outside of geographic study areas (FL, IL, LA, TX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1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.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gible facilities in study are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77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.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Facility Sample Fulfillmen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66680" y="1397160"/>
          <a:ext cx="7315200" cy="4644720"/>
        </p:xfrm>
        <a:graphic>
          <a:graphicData uri="http://schemas.openxmlformats.org/drawingml/2006/table">
            <a:tbl>
              <a:tblPr/>
              <a:tblGrid>
                <a:gridCol w="4343400"/>
                <a:gridCol w="1695600"/>
                <a:gridCol w="1276200"/>
              </a:tblGrid>
              <a:tr h="5810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ligible Facilities by Stratu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tratu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Facilit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erc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Facilit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77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.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spital-bas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-V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-HI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-Part 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.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54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4.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Facility Sample Fulfillmen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90720" y="1905120"/>
          <a:ext cx="7619760" cy="3382920"/>
        </p:xfrm>
        <a:graphic>
          <a:graphicData uri="http://schemas.openxmlformats.org/drawingml/2006/table">
            <a:tbl>
              <a:tblPr/>
              <a:tblGrid>
                <a:gridCol w="4495680"/>
                <a:gridCol w="1809720"/>
                <a:gridCol w="1314360"/>
              </a:tblGrid>
              <a:tr h="670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tate/Regional Office Review Resul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Facility Gro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Facilit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erc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domly selected for revie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.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minated by State agencies/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MS regional offi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maining: eligible for invit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.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Facility Sample Fulfillmen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85800" y="1752480"/>
          <a:ext cx="7543800" cy="3484800"/>
        </p:xfrm>
        <a:graphic>
          <a:graphicData uri="http://schemas.openxmlformats.org/drawingml/2006/table">
            <a:tbl>
              <a:tblPr/>
              <a:tblGrid>
                <a:gridCol w="4191120"/>
                <a:gridCol w="1938240"/>
                <a:gridCol w="1414440"/>
              </a:tblGrid>
              <a:tr h="5810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Facility Particip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Facility Gro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Facilit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erc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vited to particip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.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lined to particip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.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reed to particip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.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ilities with completed stud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.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ampling Weight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ple weights correct for unequal selection probabilit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ability of selection for each facility is product of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) Probability facility selected for initial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) Probability facility selected for inclusion in stu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) Probability each resident within facility included in stu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pling weight = inverse of probability, scaled to samp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umes various factors are rando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e.g., facility refusals, unit selection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ison with population on selected variables increases confidence in sampling proced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3"/>
          <p:cNvSpPr/>
          <p:nvPr/>
        </p:nvSpPr>
        <p:spPr>
          <a:xfrm>
            <a:off x="457200" y="625140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IVE TEP March 11,20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4648320" y="6248520"/>
            <a:ext cx="4038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owa Foundation for Medical C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Notice: These materials are in the public domain and cannot be copyright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Margin of Error: Mean Staff Time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85800" y="1676520"/>
          <a:ext cx="7848720" cy="3759120"/>
        </p:xfrm>
        <a:graphic>
          <a:graphicData uri="http://schemas.openxmlformats.org/drawingml/2006/table">
            <a:tbl>
              <a:tblPr/>
              <a:tblGrid>
                <a:gridCol w="1962000"/>
                <a:gridCol w="1962360"/>
                <a:gridCol w="1962000"/>
                <a:gridCol w="196236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gro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/97 Stu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IVE Project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IV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u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27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care Resid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rsing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apy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-Medicare Resid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rsing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apy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Text Box 45"/>
          <p:cNvSpPr/>
          <p:nvPr/>
        </p:nvSpPr>
        <p:spPr>
          <a:xfrm>
            <a:off x="685800" y="5715000"/>
            <a:ext cx="78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Note:  Margins of error reflect expected sampling error for mean staff time with the effect of case mix removed.  Margins of error based upon 95% confidence interv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rocedures in Facility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ff Time Measur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lected using PDA (2 days nursing, 3 days therapy) and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per tools (7 days therap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nursing, therapy, and ancillary staf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determined protocol for unit selection based on facility size selected entire facility or entire un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ty population units, if applic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-Part A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maining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“supplemental unit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IVE M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al MDS 2.0 and Addend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STRIVE</a:t>
            </a:r>
            <a:br>
              <a:rPr sz="6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Staff Time and Resource Intensity Verification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cal Expert Panel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ch 11, 20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STRIVE@IFMC.ORG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come &amp; Introdu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Design / Sampling / Data Col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ssembling the Analytic Data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Therapy Impu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liminary Analytic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Care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popu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ing 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p / Next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r Comment Peri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o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Assembling Analytic Database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-Collection Ad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ge weigh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MDS Repository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ing Part A resid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ug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Clea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l sample deter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ing therapy ti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Final Sample Determination: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Residents Used for CMI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5640" y="1905120"/>
            <a:ext cx="449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,486 Study Resi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30481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,136 Study Resi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MDS/R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464832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,721 Study Residents with MDS/RPT and 48 hrs of Nursing Staf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95680" y="2514600"/>
            <a:ext cx="0" cy="5335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95680" y="4038480"/>
            <a:ext cx="0" cy="5335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4724280"/>
            <a:ext cx="1143000" cy="457200"/>
          </a:xfrm>
          <a:prstGeom prst="rect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Therapy Adjustments</a:t>
            </a:r>
            <a:endParaRPr b="1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djusting Therapy Tim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collected with paper (vs. PDAs) appears incompl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supervis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different staff on weeke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not match national distribution of RUG-III rehabilitation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djusting Therapy Tim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04920" y="1371600"/>
          <a:ext cx="8534160" cy="3913200"/>
        </p:xfrm>
        <a:graphic>
          <a:graphicData uri="http://schemas.openxmlformats.org/drawingml/2006/table">
            <a:tbl>
              <a:tblPr/>
              <a:tblGrid>
                <a:gridCol w="1600200"/>
                <a:gridCol w="990360"/>
                <a:gridCol w="762120"/>
                <a:gridCol w="762120"/>
                <a:gridCol w="838080"/>
                <a:gridCol w="762120"/>
                <a:gridCol w="685800"/>
                <a:gridCol w="685800"/>
                <a:gridCol w="838080"/>
                <a:gridCol w="60948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lection Schedul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1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6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5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5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7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6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3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6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1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9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72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531360" y="5486400"/>
            <a:ext cx="81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ding: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PDA data collection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  <a:ea typeface="Arial"/>
              </a:rPr>
              <a:t>Paper data collec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601992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te: Analysis includes only individuals present for full 7 days of stu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itting National Distribution: Part A Claims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Unadjusted Therapy Tim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04920" y="1106640"/>
          <a:ext cx="8610480" cy="521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06640"/>
                    <a:ext cx="8610480" cy="52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etermining Therapy Times: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Adjustment Method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dent time for each disciplin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sical Therapy, Occupational Therapy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ech-Language Path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verage therapy sess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ased on PDA days where 15+ min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imate number of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days of therap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late PDA days wit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≥ 1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non-PDA weekend days wit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≥ 15 minu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e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djusted weekly therapy min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sted weekly therapy minutes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verage therapy session) x (Days of therap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etermining Therapy Times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Example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04920" y="1828800"/>
          <a:ext cx="8610480" cy="1959120"/>
        </p:xfrm>
        <a:graphic>
          <a:graphicData uri="http://schemas.openxmlformats.org/drawingml/2006/table">
            <a:tbl>
              <a:tblPr/>
              <a:tblGrid>
                <a:gridCol w="1447560"/>
                <a:gridCol w="685800"/>
                <a:gridCol w="609840"/>
                <a:gridCol w="609480"/>
                <a:gridCol w="609480"/>
                <a:gridCol w="457200"/>
                <a:gridCol w="609840"/>
                <a:gridCol w="609480"/>
                <a:gridCol w="990720"/>
                <a:gridCol w="990360"/>
                <a:gridCol w="9907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Tim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g Therapy sess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ys 15+ m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serv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umed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2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1753200" y="3962520"/>
            <a:ext cx="56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IMATED DAYS of THERAPY*=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JUSTED WEEKLY MINUTES  =  5 x 42= 210 m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943600" y="2971800"/>
            <a:ext cx="1676160" cy="1676160"/>
            <a:chOff x="5943600" y="2971800"/>
            <a:chExt cx="1676160" cy="1676160"/>
          </a:xfrm>
        </p:grpSpPr>
        <p:sp>
          <p:nvSpPr>
            <p:cNvPr id="175" name=""/>
            <p:cNvSpPr/>
            <p:nvPr/>
          </p:nvSpPr>
          <p:spPr>
            <a:xfrm>
              <a:off x="5943600" y="4088880"/>
              <a:ext cx="332640" cy="55908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76440" y="2971800"/>
              <a:ext cx="1543320" cy="1117080"/>
            </a:xfrm>
            <a:custGeom>
              <a:avLst/>
              <a:gdLst/>
              <a:ahLst/>
              <a:rect l="l" t="t" r="r" b="b"/>
              <a:pathLst>
                <a:path w="1152" h="576">
                  <a:moveTo>
                    <a:pt x="0" y="576"/>
                  </a:moveTo>
                  <a:lnTo>
                    <a:pt x="0" y="288"/>
                  </a:lnTo>
                  <a:lnTo>
                    <a:pt x="1152" y="288"/>
                  </a:lnTo>
                  <a:lnTo>
                    <a:pt x="1152" y="0"/>
                  </a:lnTo>
                </a:path>
              </a:pathLst>
            </a:custGeom>
            <a:noFill/>
            <a:ln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470560" y="3505320"/>
            <a:ext cx="3292560" cy="1143000"/>
            <a:chOff x="5470560" y="3505320"/>
            <a:chExt cx="3292560" cy="1143000"/>
          </a:xfrm>
        </p:grpSpPr>
        <p:sp>
          <p:nvSpPr>
            <p:cNvPr id="178" name=""/>
            <p:cNvSpPr/>
            <p:nvPr/>
          </p:nvSpPr>
          <p:spPr>
            <a:xfrm>
              <a:off x="5470560" y="3962520"/>
              <a:ext cx="377640" cy="68580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43440" y="3505320"/>
              <a:ext cx="3019680" cy="533160"/>
            </a:xfrm>
            <a:custGeom>
              <a:avLst/>
              <a:gdLst/>
              <a:ahLst/>
              <a:rect l="l" t="t" r="r" b="b"/>
              <a:pathLst>
                <a:path w="1872" h="528">
                  <a:moveTo>
                    <a:pt x="0" y="528"/>
                  </a:moveTo>
                  <a:lnTo>
                    <a:pt x="1872" y="528"/>
                  </a:lnTo>
                  <a:lnTo>
                    <a:pt x="1872" y="0"/>
                  </a:lnTo>
                </a:path>
              </a:pathLst>
            </a:custGeom>
            <a:noFill/>
            <a:ln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itting National Distribution: Part A Claims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djusted Therapy Tim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28600" y="1152360"/>
          <a:ext cx="8763120" cy="48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52360"/>
                    <a:ext cx="876312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Welcome &amp; Introduction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an Eby, Project Director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wa Foundation for Medical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thy Langenberg, R.N.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VE Operations Manager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wa Foundation for Medical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ik Thompson, Program Director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wa Foundation for Medical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Effect of Therapy Adjustment on Normalized Therapy WWS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 adjusted and raw therapy WW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imate “therapy CMIs” by normalizing therapy wage-weighted staff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ine “therapy CMIs” for NFs where the therapy collection appeared consistent across the entire wee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apy collection on unsupervised days was &gt;50% of supervised da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omparison of Normalized Therapy WWST: Adjusted vs. Raw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68280" y="1846440"/>
          <a:ext cx="8310600" cy="408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1846440"/>
                    <a:ext cx="831060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609480" y="6019920"/>
            <a:ext cx="7423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*therapy collection on unsupervised days was &gt;50% of the supervised day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266760" y="1600200"/>
          <a:ext cx="8458200" cy="443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1600200"/>
                    <a:ext cx="845820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omparison of Normalized Therapy WWST: Adjusted vs. Raw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286000" y="20570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343400" y="20570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724280" y="20570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5181480" y="20570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019920" y="20570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629400" y="20570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7162920" y="20570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8680" y="1523880"/>
            <a:ext cx="18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divid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85600" y="1523880"/>
            <a:ext cx="209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cur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010280" y="1447920"/>
            <a:ext cx="140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1828800"/>
            <a:ext cx="0" cy="4114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72200" y="1828800"/>
            <a:ext cx="0" cy="4114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914400" y="357912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5520" y="3581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71600" y="37339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3886200" y="365544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34120" y="434340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35920" y="3733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35920" y="3124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4343400" y="3276720"/>
            <a:ext cx="8380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343400" y="38098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343400" y="3962520"/>
            <a:ext cx="7621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6477120" y="365544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696080" y="373392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697880" y="3200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153280" y="320040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153280" y="373392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934320" y="38098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620120" y="3200400"/>
            <a:ext cx="838080" cy="1066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5257800"/>
            <a:ext cx="27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nallocated= 30 minu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126240" y="4952880"/>
            <a:ext cx="2942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nallocated= 30 minu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llocated     = 30 minutes/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= 10 minu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248520" y="5029200"/>
            <a:ext cx="270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nallocated= 30 minu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llocated = 30 minutes/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=  7.5 minu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Individual, Concurrent &amp; Group Therap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 rot="10800000">
            <a:off x="2285640" y="624816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= Therapi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945760" y="6248520"/>
            <a:ext cx="14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= Resid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7960" y="2286000"/>
            <a:ext cx="2030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rapist works wi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only 1 resi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60120" y="2209680"/>
            <a:ext cx="208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rapist works with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+ residents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fferent modalit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708240" y="2133720"/>
            <a:ext cx="208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rapist works with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+ residents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ame moda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Individual, Concurrent &amp; Group Time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57200" y="1600200"/>
          <a:ext cx="8229600" cy="45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Therapy Time: Summary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apy adjustme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ch national Part A distribution of RUG-III rehabilitation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all information collecte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MDS, PDA, paper too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dit maximum likely therapy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urrent therapy frequently utiliz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come &amp; Introdu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Design / Sampling / Data Col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mbling the Analytic Data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apy Impu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reliminary Analytic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Special Care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Special popu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ing 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p / Next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r Comment Peri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o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nitial RUG-53 Nursing Relative Weights (STRIVE)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vs. Current Unadjusted SNF Nursing CMIs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69800" y="1263600"/>
          <a:ext cx="8458200" cy="454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263600"/>
                    <a:ext cx="8458200" cy="45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Preliminary Analysis: 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Variance Explanation of RUG-53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504720" y="1440000"/>
          <a:ext cx="8258400" cy="435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1440000"/>
                    <a:ext cx="8258400" cy="43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403200" y="5935680"/>
            <a:ext cx="462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otes About Analys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848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tic (N=6454 residents) vs. validation (N=3253) s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analyses use only analytic s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s replicated on validation s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full sample when have small sample siz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full sample and sample weights to derive case-mix indexes (CM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Welcome &amp; Introduction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nt Fries, Ph.D., STRIVE Analytic Task Lead, University of Michi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b Godbout, Ph.D.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VE Survey Design Consultant, Stepw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e Malitz, Ph.D.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VE Survey Design Consultant, Stepw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e Oatway, R.N., M.P.H.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VE Database Manager, CareTr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otes About Analys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848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y dependent variable: wage-weighted staff time = “WWS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ges normalized to average CNA sal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ed both (nursing+therapy) and nurs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ly, similar results obtained for log WW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ote: WWST are not 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WWSTs (analytic sample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rsing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8.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rsing + Therapy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4.7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otes About Analys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displaying portion of analyses r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most all analyses inter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Refinement to “upper” RUG hierarchy affects “lower” categ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ication: Use caution in comparing analyses performed at different stages of model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otes About Analys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sions made on multiple criter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riance explan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stantiality of differ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 overall range of group mea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ke groups more homogeneo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 differences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betwe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grou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lication of results in prior 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nical se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en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oid items vulnerable to “gaming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courage selected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impact on Medicar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edica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228600" y="990720"/>
          <a:ext cx="3809880" cy="4778280"/>
        </p:xfrm>
        <a:graphic>
          <a:graphicData uri="http://schemas.openxmlformats.org/drawingml/2006/table">
            <a:tbl>
              <a:tblPr/>
              <a:tblGrid>
                <a:gridCol w="2444760"/>
                <a:gridCol w="136512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pecial Popul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Resid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lzheim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MI-Al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MI-Schizophren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MI- Bipol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MI- Oth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afblin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a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lin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nder Age 18 y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-40 yea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1-64 yea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iratory Therap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4343400" y="990720"/>
          <a:ext cx="4572000" cy="4778280"/>
        </p:xfrm>
        <a:graphic>
          <a:graphicData uri="http://schemas.openxmlformats.org/drawingml/2006/table">
            <a:tbl>
              <a:tblPr/>
              <a:tblGrid>
                <a:gridCol w="3024360"/>
                <a:gridCol w="154764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pecial Popul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Resid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ction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hysical/Verbal  Abu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r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emotherap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umatic Brain Inju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rgical Wound C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alys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sp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UG 44- BA/B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ariatric (weight ≥ 300lb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lliative C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in (&gt; no pai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"/>
          <p:cNvSpPr/>
          <p:nvPr/>
        </p:nvSpPr>
        <p:spPr>
          <a:xfrm>
            <a:off x="2135160" y="152280"/>
            <a:ext cx="550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pecial Populations Ident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Pain</a:t>
            </a:r>
            <a:endParaRPr b="1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ain Scale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485120" cy="37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ed five pain sc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DS 2.0 Pain Sc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DS 3.0 Resident Pain inter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nbach’s Alpha: 0.7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DS 3.0 Facility Pain Indic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nbach’s Alpha: 0.7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DS 3.0 Combined Pain interview and Facility Pain sc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resident can self report on pain then use Pain interview scale. Otherwise, use Facility Pain sc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n Control item – in STRIVE Addend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ariance Explanation (VE) of Pain Scal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762120" y="1600200"/>
          <a:ext cx="7924680" cy="4356000"/>
        </p:xfrm>
        <a:graphic>
          <a:graphicData uri="http://schemas.openxmlformats.org/drawingml/2006/table">
            <a:tbl>
              <a:tblPr/>
              <a:tblGrid>
                <a:gridCol w="1881000"/>
                <a:gridCol w="1473120"/>
                <a:gridCol w="1473480"/>
                <a:gridCol w="1471320"/>
                <a:gridCol w="1625760"/>
              </a:tblGrid>
              <a:tr h="613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endent Vari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apy+Nursing WW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 of (RUG+Pain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 of RU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(RUG+Pain)-VE(RUG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DS Pa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16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58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4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in Interview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4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14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08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ility Pa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4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5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47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in Interview Facil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4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56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47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in Contro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65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6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48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1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Tested Pain Control Item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N CONTROL (Note: Always ask the person about pain frequency, intensity, and control.  Observe person and ask others who are in contact with the pers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quacy of current therapeutic regimen to control pain (from person’s point of view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de for the last 3 day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 = No issue of p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= Pain intensity acceptable to person, no treatment regimen or change in regimen requi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= Controlled adequately by therapeutic regim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 = Controlled when therapeutic regimen followed, but not always followed as orde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= Therapeutic regimen followed, but pain control not adequ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 = No therapeutic regimen being followed for pain; pain not adequately controll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ummary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variance explanation for RUG 53 residu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e pain measures identify different individua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not clear how to implement pain scale into 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initiatives will address pain, e.g., as part of quality monito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Questions for Panel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Welcome &amp; Introduction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P Participant introd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dures for the 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n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nes – place on vib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at 4:00 p.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ct –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STRIVE@IFMC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come &amp; Introdu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Design / Sampling / Data Col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mbling the Analytic Data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apy Impu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liminary Analytic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Care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popu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efining 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p / Next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r Comment Peri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o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990720" y="-1295280"/>
          <a:ext cx="5634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-1295280"/>
                    <a:ext cx="5634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"/>
          <p:cNvSpPr/>
          <p:nvPr/>
        </p:nvSpPr>
        <p:spPr>
          <a:xfrm>
            <a:off x="6615360" y="87480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RUG-III 53-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(Version 5.2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Refining RUG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erarchy categ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ary spl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tiary spl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Structure of Extensive Services Category</a:t>
            </a: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4" name=""/>
          <p:cNvGraphicFramePr/>
          <p:nvPr/>
        </p:nvGraphicFramePr>
        <p:xfrm>
          <a:off x="990720" y="-1295280"/>
          <a:ext cx="5634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-1295280"/>
                    <a:ext cx="5634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6615360" y="87480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RUG-III 53-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(Version 5.2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533520"/>
            <a:ext cx="762120" cy="60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28800" y="2590920"/>
            <a:ext cx="76212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Extensive Services - Main Issue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- vs. Post-admission Extensive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cture of Extensive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 qualif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qualif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li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Pre- vs. Post-Admission Extensive Services</a:t>
            </a: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Pre- vs. Post-admission Extensive Service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sue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re there significant differences in resource use among early-stay residents who receiv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extensive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-admission extensive services on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-admission extensive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pulation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02 residents with days of stay ≤7 day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Numbers of Pre/Post Extensive Service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330120" y="1225440"/>
          <a:ext cx="8864640" cy="390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1225440"/>
                    <a:ext cx="8864640" cy="39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Mean Nursing WWST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by Pre/Post Extensive Service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11040" y="1857240"/>
          <a:ext cx="8701200" cy="39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040" y="1857240"/>
                    <a:ext cx="8701200" cy="39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567720" y="5931000"/>
            <a:ext cx="43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sis of individuals with LOS&lt;=7 day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come &amp; Introdu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tudy Design / Sampling / Data Col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mbling the Analytic Data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apy Impu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liminary Analytic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Care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popu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ing 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p / Next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r Comment Peri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o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Extensive Services Category</a:t>
            </a: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xtensive Services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ssu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the items used to qualify for extensive services appropria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the extensive services count work to split the extensive categor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pulation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6454 residents in the derivation s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520" y="503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RUG-III Extensive Services Coun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609480" y="1752480"/>
          <a:ext cx="7848720" cy="4206960"/>
        </p:xfrm>
        <a:graphic>
          <a:graphicData uri="http://schemas.openxmlformats.org/drawingml/2006/table">
            <a:tbl>
              <a:tblPr/>
              <a:tblGrid>
                <a:gridCol w="4232520"/>
                <a:gridCol w="2014560"/>
                <a:gridCol w="1601640"/>
              </a:tblGrid>
              <a:tr h="42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 Qualifi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 cou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eral/IV feed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V medica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ction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cheostom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ntilator/Respirat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fy for Special C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fy for Clinically Comple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fy for Cognitive Impair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</a:tr>
              <a:tr h="37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L ≥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xtensive Services WWST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by RUG-III Count and Item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57200" y="1523880"/>
          <a:ext cx="82296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96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Summary of Analysis of Extensive Services Category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7848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-admission extensive services more resource intensive than pre-admission; pre-admission similar to “no servic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nteral feeding and IV meds have lower resource use than other Extensive qualif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 Extensive Services count (including qualifiers of major categories) not effecti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Questions for Panel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4" name=""/>
          <p:cNvGraphicFramePr/>
          <p:nvPr/>
        </p:nvGraphicFramePr>
        <p:xfrm>
          <a:off x="1219320" y="-1295280"/>
          <a:ext cx="5634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-1295280"/>
                    <a:ext cx="5634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"/>
          <p:cNvSpPr/>
          <p:nvPr/>
        </p:nvSpPr>
        <p:spPr>
          <a:xfrm>
            <a:off x="6936120" y="83808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RUG-III 53-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(Version 5.2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981080" y="3124080"/>
            <a:ext cx="838440" cy="838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Evaluating RUG-III Special Care Qualifier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706320" y="1657440"/>
          <a:ext cx="7828200" cy="456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6320" y="1657440"/>
                    <a:ext cx="7828200" cy="45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valuating RUG-III Clinically Complex Qualifier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714240" y="1236600"/>
          <a:ext cx="7782120" cy="508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1236600"/>
                    <a:ext cx="778212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Questions for Panel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TRIVE Background Review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 nursing home time stud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Collection – Spring ’06 – Summer ‘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ff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rsing, therapy, and ancillary staff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onal digital assistants (PDAs) with paper tool back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ssment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DS 2.0 with one-third “grayed out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IVE MDS addend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sis – ongo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1219320" y="-1295280"/>
          <a:ext cx="5634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-1295280"/>
                    <a:ext cx="5634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6936120" y="83808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RUG-III 53-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(Version 5.2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057400" y="4343400"/>
            <a:ext cx="762120" cy="1828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Refining RUGs – Hierarchy Categorie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er Hierarc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i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hav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d Physical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Distribution of RUG-III Lower Hierarchy Group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460440" y="1600200"/>
          <a:ext cx="8451720" cy="45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1600200"/>
                    <a:ext cx="845172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Questions for Panel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there reasons to combine or retain Behavior categor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olence was not a predictor of resource use.  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ADL Scale</a:t>
            </a:r>
            <a:endParaRPr b="1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DL Scale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su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the ADL Scale be improved s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 residents get similar scores (fi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ores are more proportional to impairment (lineari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pulation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454 residents in the derivation s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DL Scale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in RUG-III for splits of each Major Group except for ‘Extensive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d on 4 AD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d mo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f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ilet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ting, including ‘Feeding’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enteral/IV nutr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eding Tube nutr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th &gt;50% daily calorie intake 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th &gt;25% daily calorie intake and &gt;500cc daily fluid intak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"/>
          <p:cNvGraphicFramePr/>
          <p:nvPr/>
        </p:nvGraphicFramePr>
        <p:xfrm>
          <a:off x="1219320" y="-1295280"/>
          <a:ext cx="5634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-1295280"/>
                    <a:ext cx="5634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6936120" y="83808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RUG-III 53-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(Version 5.2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657600" y="380880"/>
            <a:ext cx="609480" cy="990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505320" y="1523880"/>
            <a:ext cx="533160" cy="990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276720" y="3200400"/>
            <a:ext cx="685800" cy="228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819520" y="3657600"/>
            <a:ext cx="609480" cy="228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819520" y="4419720"/>
            <a:ext cx="609480" cy="228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19520" y="4876920"/>
            <a:ext cx="609480" cy="304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819520" y="5715000"/>
            <a:ext cx="609480" cy="228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325920" y="3048120"/>
            <a:ext cx="23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Note: Also used 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ategory qualifi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ADLs to Scale Values</a:t>
            </a:r>
            <a:br>
              <a:rPr sz="4000"/>
            </a:b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Bed mobility, Transfer, Toilet use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457200" y="1600200"/>
          <a:ext cx="3995280" cy="4525560"/>
        </p:xfrm>
        <a:graphic>
          <a:graphicData uri="http://schemas.openxmlformats.org/drawingml/2006/table">
            <a:tbl>
              <a:tblPr/>
              <a:tblGrid>
                <a:gridCol w="1498320"/>
                <a:gridCol w="832320"/>
                <a:gridCol w="845640"/>
                <a:gridCol w="819000"/>
              </a:tblGrid>
              <a:tr h="492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rr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por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e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u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per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-per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ependent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ervi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mit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ist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ensive Assist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ende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4691160" y="1600200"/>
          <a:ext cx="3995640" cy="4129200"/>
        </p:xfrm>
        <a:graphic>
          <a:graphicData uri="http://schemas.openxmlformats.org/drawingml/2006/table">
            <a:tbl>
              <a:tblPr/>
              <a:tblGrid>
                <a:gridCol w="1498680"/>
                <a:gridCol w="831600"/>
                <a:gridCol w="846360"/>
                <a:gridCol w="819000"/>
              </a:tblGrid>
              <a:tr h="4460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terna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por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e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u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per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-per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ependent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ervi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mit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ist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ensive Assist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ende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ADLs to Scale Values</a:t>
            </a:r>
            <a:br>
              <a:rPr sz="4000"/>
            </a:b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Eating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457200" y="1600200"/>
          <a:ext cx="3995280" cy="4525560"/>
        </p:xfrm>
        <a:graphic>
          <a:graphicData uri="http://schemas.openxmlformats.org/drawingml/2006/table">
            <a:tbl>
              <a:tblPr/>
              <a:tblGrid>
                <a:gridCol w="1498320"/>
                <a:gridCol w="832320"/>
                <a:gridCol w="845640"/>
                <a:gridCol w="819000"/>
              </a:tblGrid>
              <a:tr h="492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rr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por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e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u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per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-per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ependent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ervi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mit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ist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ensive Assist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Including Parenteral/IV/Tube Feed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ende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4691160" y="1600200"/>
          <a:ext cx="3995640" cy="4129200"/>
        </p:xfrm>
        <a:graphic>
          <a:graphicData uri="http://schemas.openxmlformats.org/drawingml/2006/table">
            <a:tbl>
              <a:tblPr/>
              <a:tblGrid>
                <a:gridCol w="1498680"/>
                <a:gridCol w="755640"/>
                <a:gridCol w="871200"/>
                <a:gridCol w="870120"/>
              </a:tblGrid>
              <a:tr h="4460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terna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por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e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u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per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-per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ependent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ervi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mit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ist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ensive Assist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ende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ampling Goal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ability-based sample that can be generalized to the 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dom selection of facilities and resi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 member of population has a known probability of se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-sample important special populations to support case mix analys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More Linear; More Respons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52280" y="1447920"/>
          <a:ext cx="405144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47920"/>
                    <a:ext cx="405144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3733920" y="1371600"/>
          <a:ext cx="4554360" cy="259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1371600"/>
                    <a:ext cx="455436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152280" y="3657600"/>
          <a:ext cx="3843360" cy="243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3657600"/>
                    <a:ext cx="384336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3352680" y="3505320"/>
          <a:ext cx="5600880" cy="2743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2680" y="3505320"/>
                    <a:ext cx="56008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380880" y="59436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for comparative purposes, Original scoring is scaled from 0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arenteral, IV, and Tube Feeding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in RUG-III Sc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eding” not needed when use Eating Suppor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adjustment, little difference with vs. without “feed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eding” residents vary greatly in Eating Performance/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without “feeding” as qualifier, 82% place at an equal or higher Scale Weight as with the Current Sc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lternative ADL Index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 of scale values for 4 AD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le ranges from 0-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Improved Fit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(More homogeneous)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609480" y="1371600"/>
          <a:ext cx="784872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784872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2221920" y="2362320"/>
            <a:ext cx="2250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urrent R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:    10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lternative R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:  11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577240" y="506556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66"/>
                </a:solidFill>
                <a:latin typeface="Arial"/>
              </a:rPr>
              <a:t>Cur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41400" y="304812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Alterna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80880" y="609588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for comparative purposes, Original scoring is scaled from 0-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Greater Range,</a:t>
            </a:r>
            <a:br>
              <a:rPr sz="3600"/>
            </a:b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 Flatter Distribution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609480" y="1371600"/>
          <a:ext cx="79250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79250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7012440" y="33526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66"/>
                </a:solidFill>
                <a:latin typeface="Arial"/>
              </a:rPr>
              <a:t>Cur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165080" y="4572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Alterna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299360" y="3402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80880" y="601992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for comparative purposes, Original scoring is scaled from 0-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Hierarchy Categories - Approach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der ADL Thresholds for qualif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der ADL Thresholds for categ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econdary Split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in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L Ind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 of categ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 of all category qualif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 of “below” category qualif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e as strong as ADL splits, or useful after ADL spl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UG-III ADL Cut Points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380880" y="685800"/>
          <a:ext cx="8548920" cy="5691240"/>
        </p:xfrm>
        <a:graphic>
          <a:graphicData uri="http://schemas.openxmlformats.org/drawingml/2006/table">
            <a:tbl>
              <a:tblPr/>
              <a:tblGrid>
                <a:gridCol w="1447920"/>
                <a:gridCol w="979560"/>
                <a:gridCol w="468360"/>
                <a:gridCol w="412560"/>
                <a:gridCol w="333360"/>
                <a:gridCol w="397080"/>
                <a:gridCol w="480960"/>
                <a:gridCol w="563400"/>
                <a:gridCol w="638280"/>
                <a:gridCol w="385920"/>
                <a:gridCol w="469800"/>
                <a:gridCol w="431640"/>
                <a:gridCol w="381240"/>
                <a:gridCol w="610920"/>
                <a:gridCol w="182520"/>
                <a:gridCol w="365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G Catego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ha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1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-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-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hab+Exten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ltra 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 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habilit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ltra 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 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ensiv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AD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3680">
                      <a:solidFill>
                        <a:srgbClr val="00051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ci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000514"/>
                      </a:solidFill>
                    </a:lnT>
                    <a:lnB w="1368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000514"/>
                      </a:solidFill>
                    </a:lnT>
                    <a:lnB w="1368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air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000514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havi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duced Physical Funct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Possible ADL Cut Points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295280" y="762120"/>
          <a:ext cx="7010640" cy="5473440"/>
        </p:xfrm>
        <a:graphic>
          <a:graphicData uri="http://schemas.openxmlformats.org/drawingml/2006/table">
            <a:tbl>
              <a:tblPr/>
              <a:tblGrid>
                <a:gridCol w="1927440"/>
                <a:gridCol w="1577880"/>
                <a:gridCol w="701640"/>
                <a:gridCol w="579600"/>
                <a:gridCol w="674640"/>
                <a:gridCol w="760320"/>
                <a:gridCol w="78912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G Catego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G Grou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-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-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-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-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-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hab+Extensiv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ltra 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 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habilit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ltra 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 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ensiv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ci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nically Comple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air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havi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duced Physic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Questions for Panel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sonable to use ADL as secondary split (except for Extensive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it reasonable to restrict structure of ADL spli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ample Design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-stage cluster sample within each 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atified random sample of facilities (selected with probability proportional to siz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lected unit(s) within each facility for inclusion in time stu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ata (over-sample special populati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spital-ba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 concentration of ventilator resi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2%+ ventilator/ respirator residents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 concentration of HIV reside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0%+ HIV residen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 concentration of Medicare reside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20%+ Part A residen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other facil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"/>
          <p:cNvGraphicFramePr/>
          <p:nvPr/>
        </p:nvGraphicFramePr>
        <p:xfrm>
          <a:off x="1219320" y="-1295280"/>
          <a:ext cx="5634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-1295280"/>
                    <a:ext cx="5634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"/>
          <p:cNvSpPr/>
          <p:nvPr/>
        </p:nvSpPr>
        <p:spPr>
          <a:xfrm>
            <a:off x="6936120" y="83808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RUG-III 53-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(Version 5.2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09880" y="3429000"/>
            <a:ext cx="68580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809880" y="4267080"/>
            <a:ext cx="838440" cy="22100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Refining RUGs – Tertiary Split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ression used in RUG-III as tertiary split for Clinically Complex categ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lit was not large, not consis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liminary evidence that this finding will be repe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sis based on MDS 2.0 “Depression Rating Scal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ursing Rehabilitation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609480" y="1523880"/>
          <a:ext cx="7848720" cy="5546880"/>
        </p:xfrm>
        <a:graphic>
          <a:graphicData uri="http://schemas.openxmlformats.org/drawingml/2006/table">
            <a:tbl>
              <a:tblPr/>
              <a:tblGrid>
                <a:gridCol w="7848720"/>
              </a:tblGrid>
              <a:tr h="978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ses the following (primarily: 2+ activities provided 6+ days for 15+ min.)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ssive range of motion (p3a) or active range of motion (p3b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d mobility (p3d) or walking (p3f) train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plint or brace assistance (p3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fer training (p3e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ressing or grooming training (p3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ating or swallowing training (p3h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mputation/prosthesis care (p3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munication training (p3j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6836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cheduled toileting plan (h3a) or bladder retraining program (h3b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ursing Rehabilitation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152280" y="2057400"/>
          <a:ext cx="8839440" cy="2895480"/>
        </p:xfrm>
        <a:graphic>
          <a:graphicData uri="http://schemas.openxmlformats.org/drawingml/2006/table">
            <a:tbl>
              <a:tblPr/>
              <a:tblGrid>
                <a:gridCol w="1947960"/>
                <a:gridCol w="898560"/>
                <a:gridCol w="1422360"/>
                <a:gridCol w="1370160"/>
                <a:gridCol w="1550880"/>
                <a:gridCol w="1649520"/>
              </a:tblGrid>
              <a:tr h="1371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teg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 R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 Category WW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 WWST 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gnificant difference (p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aired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amp; Behavi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6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4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3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9" name=""/>
          <p:cNvSpPr/>
          <p:nvPr/>
        </p:nvSpPr>
        <p:spPr>
          <a:xfrm>
            <a:off x="609840" y="5486400"/>
            <a:ext cx="36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d on RUG-III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ursing Rehabilitation Splits: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xample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762120" y="1752480"/>
          <a:ext cx="7391160" cy="3929040"/>
        </p:xfrm>
        <a:graphic>
          <a:graphicData uri="http://schemas.openxmlformats.org/drawingml/2006/table">
            <a:tbl>
              <a:tblPr/>
              <a:tblGrid>
                <a:gridCol w="2803320"/>
                <a:gridCol w="1540080"/>
                <a:gridCol w="1066680"/>
                <a:gridCol w="198108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G Categor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rsing Rehabilit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 Nursing WW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 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7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9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 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9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5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 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5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 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 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Questions for Panel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nursing rehabilitation be retained as a split for the lower categori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come &amp; Introdu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Design / Sampling / Data Col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mbling the Analytic Data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apy Impu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liminary Analytic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Care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popu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ing 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rug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p / Next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r Comment Peri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o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able to obtain drug profiles at time of STM data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ested Medication Administration Records (MARs) – 56 facilities in 14 states respon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-keyed Medicare resi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key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DC code (look-u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quency, dose, streng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administered during we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VE drug data from resident MAR forms for week of data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7.9% of Residents are Part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=428 residents with STRIVE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6 facilit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4 states plus D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,237 drug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16.9 drugs per per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: includes TB tests, vitamin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01:11:25Z</dcterms:created>
  <dc:creator>Big Ed</dc:creator>
  <dc:description/>
  <dc:language>en-US</dc:language>
  <cp:lastModifiedBy>CMS</cp:lastModifiedBy>
  <dcterms:modified xsi:type="dcterms:W3CDTF">2009-03-18T13:49:38Z</dcterms:modified>
  <cp:revision>266</cp:revision>
  <dc:subject/>
  <dc:title>STRIV fka NNHTS</dc:title>
</cp:coreProperties>
</file>