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9B14E-0D07-4970-9D3C-AC5832D3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951CA-3F7A-4ADC-ACCB-DC6E9B70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68E03-12E3-4466-9CAE-45F21C44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7DAC1-4B04-4318-BFF3-B71A441B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FE96E-FC84-40E1-B8E6-6821A56F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36A66-48B0-4F26-8143-8777F569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B7474-BC45-4E52-985A-194CB7C8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2084A-3328-4150-9CFF-50235A36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ED498-14A4-48B3-B209-194C71BD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F79A3-D3DC-448E-8816-3A54ED69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B3F9F-325A-4E00-A07E-B62899A0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7B128-D779-47A8-9F9E-03FE2D97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IVE TEP December 1,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522B-8D48-46F2-8D4F-0437EF0513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C8EA-718F-4D84-9590-7FFEAD086A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cms.hhs.gov/providers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ms.hhs.gov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bus Budget Reconciliation Act of 19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uniform assessment instrument, based on a minimum data set to improve facility care planning and resident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Budget Act of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F moves to PPS system in 1998, many states use the case-mix payment system for Medicaid reimburse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 mix system at the core of the Medicare SNF PPS consists of three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s (ST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assess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calculations of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tiliz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group represents a level of resource utilization and is quantified with a case mix index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resource utilization to paymen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-III classification system was designed by relating resident characteristics to wage-weighted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regarding a resident’s characteristics was derived from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S resident assessment instr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50 percent of states use a version of the RUG classification system to pay for Medicaid nursing hom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e Federal and state systems are based on staff time measurement data collected in 1990, 1995, and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ational time study has taken place since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September 30, 2005, CMS awarded a contract to Iowa Foundation for Medical Care (IFMC) and its partners to conduct this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cope of Work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team will implement and manage CMS’s multi-state STM study including the following tas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uit nursing homes, state agencies, and volunteers to particip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hardware, software, and training to obtain the data in a useable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data collection through pilot test and national time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Medicare and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special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venti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llary co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 items and meas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s, therapy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collaboration with other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VA,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nationally representative samp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bout 12,000 resid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ified random sample of facilities withi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 and special population st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y screening based on survey deficiencies and QI/QM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ate / Facility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Burke, Ph.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e Pelfrey, STRIVE Project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oals of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resource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time data with most current and teste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ormal staff levels and resident loa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data to be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data from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resources used for residen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emental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rivac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level data not shared or available outside of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conducted in compliance with HIPAA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data not shared with fac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ime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time from all direct care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cketPC running the CareTrack Staff Time soft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 backup available for technical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and group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ketPC time data collection is very easy to learn and use, and is reliable and acc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Specific Time (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with or on behalf of a res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ists identify the modality by selecting HCPC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Non-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Resident Specific Time (N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supporting the delivery of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 du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eals and Break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ls and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’s spend on personal meals and 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Additional Resources Used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to Care for Residen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and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Assessmen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/update hardcopy MDS 2.0 with an assessment reference date during th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supplemental assessment items on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to IFMC for data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Burke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Directo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orge Washingto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Characteristic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on,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, types, sizes of nurs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in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te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ates state project l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staff for on-site data collection and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s facilities and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s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Support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keholder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s study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study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s issues and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volunteers for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s i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s staff for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staff and resident r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staff time and resource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work space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FMC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TRIVE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s state projec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sample facility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recruitment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recruitmen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in recruitment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study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laptops and PocketP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help line and stud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Collection Summar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performed by states, with  assistance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y trained volunteers create partnerships and keep the process transparent to the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Malitz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ibrate CMI for current RUG-III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(N=12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, 44, 53 group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several CMI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, Medicaid, D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2057400"/>
            <a:ext cx="3353040" cy="6858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267080"/>
            <a:ext cx="3276720" cy="53352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505320"/>
            <a:ext cx="289584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838080" cy="106704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6" idx="3"/>
          </p:cNvCxnSpPr>
          <p:nvPr/>
        </p:nvCxnSpPr>
        <p:spPr>
          <a:xfrm flipV="1">
            <a:off x="3429000" y="3428280"/>
            <a:ext cx="915120" cy="1105560"/>
          </a:xfrm>
          <a:prstGeom prst="straightConnector1">
            <a:avLst/>
          </a:prstGeom>
          <a:ln w="63360">
            <a:solidFill>
              <a:srgbClr val="ff99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4348080" y="12942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2567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257800" y="3505320"/>
            <a:ext cx="838080" cy="16761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1752480"/>
            <a:ext cx="761760" cy="1752840"/>
          </a:xfrm>
          <a:prstGeom prst="line">
            <a:avLst/>
          </a:prstGeom>
          <a:ln w="6336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15200" y="3200400"/>
            <a:ext cx="12762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5e5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G-III</a:t>
            </a:r>
            <a:endParaRPr b="0" lang="en-US" sz="1800" spc="1" strike="noStrike">
              <a:ln w="19080">
                <a:solidFill>
                  <a:srgbClr val="e5e5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Geographic Distribution of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Project Team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MC is based in West Des Moines, Iowa with offices in Owings Mills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 University, Washington, 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Michigan, Ann Arbor,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Track Systems, Key West, F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wise Systems, Austin, T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RUG-III mod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Rehab+Extensiv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leafy-end spl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of 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ventilator/respi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 of changing RUG-III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use of known sc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IV medications before/after NH ad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additional qualifi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ion of new assessment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RUG-III modification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RUG-III service-based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physician orders/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ssessment schedu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dditional cost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 of any new assessment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D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Canadia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ampling Desig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, random sample of facilities within volunteer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cation will insure adequate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-bas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y ex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ble to particip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emergencies, legal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Pla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: 15 states, 240 facilitie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,000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ed facilities will include all uni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xcept large facilit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atification of Facilit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1526760" y="1371240"/>
            <a:ext cx="546120" cy="441972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46320" y="1374840"/>
            <a:ext cx="5321160" cy="2638800"/>
          </a:xfrm>
          <a:prstGeom prst="rect">
            <a:avLst/>
          </a:prstGeom>
          <a:solidFill>
            <a:srgbClr val="0099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Med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46320" y="3932280"/>
            <a:ext cx="5321160" cy="1818000"/>
          </a:xfrm>
          <a:prstGeom prst="rect">
            <a:avLst/>
          </a:pr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2 (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12840" y="2557440"/>
            <a:ext cx="4813560" cy="3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2840" y="46292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12840" y="52214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Methodolog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ata-based exclusions using administrat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CAR defici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(QIs)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Measures (Q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2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lect sample from remaining facilities (over-sam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Stakeholder exclusions from list of sampled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Exclus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data-based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s with QI/QM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o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ing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 algorithm for scoring survey and complaint deficienc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pecial Popula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inclusion on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of high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patterns have 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rare (prevalence &lt;0.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cillary Cost Measur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measures collected directly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s part of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dled vs. unbundled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drugs/ IV 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baric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ium swal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d only for Medicare Part A st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NDC codes, can attach price/co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dose (need advi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AA &amp; privacy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ly to col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w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en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o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/ Medicaid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ost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 for a sample of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Approach: Medicare b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ills related to drug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to other cos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equire primary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not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ossible for 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dentify appropriate bills (time fr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n getting complete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High cost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database with daily cost by drug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drugs in top % (e.g., 2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y or STRIVE project staff code drug/frequency/dose received by 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drugs most likely at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s data collection effort (few residents recei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of high-daily-cost drugs could be very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find database to identify high-daily-cost dru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daily-cost drugs may be used infrequent High cost drugs change ove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nsuming to check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Medicare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 approach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ff enter drug data directly into database (with looku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out sent to IFMC for e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database sent from facility/pharmacy to IF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NDC co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ll drugs, can do any analys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alternative data collection/coding method is time-consu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sample of Medicare A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in facilities where data ar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s similar to “All drug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expensive, as only doing for part of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ies with this capability may create a biased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not have sufficient sample size for some analy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ther Cost Data Issu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some supplies/services straight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selected items as part of assessment (include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collection issues for some other high-cost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st for a supply with no specified time peri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pressure-relieving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MDS 2.0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DS instru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V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ssessment 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efficiency and accuracy of the RUG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 changes in health care practices since implementation of SNF 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payment to promot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choo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ed influence on case m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be “gam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ud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ite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pecification, training mater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to ob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reliability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liability Stud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assessment i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inter-rater reliabilit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test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iability of ancillary cost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Skilled Service Patterns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ices before or after SNF admiss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, IV medications, suc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patterns and RUG break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modal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providers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EP Objectiv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scope of STRIV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 Stakeholder Inp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Design /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nch / Data Collection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&amp; Sampling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Analysis &amp; Sampling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, continue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5-12-19T16:07:36Z</dcterms:modified>
  <cp:revision>90</cp:revision>
  <dc:subject/>
  <dc:title>STRIV fka NN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