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A258337-B36C-4189-B4F7-D97346C62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7BF0E6F-DB02-48A0-990D-D37E2B946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5668CAF-C889-4B71-96E9-5C4FD0371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FBFEA6D-26D5-4729-8590-C7681E0B7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90B2991-023C-45FD-AD23-79E812E51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584BD35-1E9D-4D80-9167-062CA7F63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436CC38-9302-4C69-AE2B-E32FF82C1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0668D57-C2A2-42E0-A4AE-9810ECFA5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C6C2CDC-5FE1-48A0-9039-241281B4F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678DCEE-C69F-4600-9D0F-FE51F0371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08DB322-C952-4859-8384-48EAE65B1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Univers 47 CondensedLight"/>
              </a:rPr>
              <a:t>NOTE:</a:t>
            </a:r>
            <a:r>
              <a:rPr b="0" lang="en-US" sz="800" spc="-1" strike="noStrike">
                <a:solidFill>
                  <a:srgbClr val="000000"/>
                </a:solidFill>
                <a:latin typeface="Univers 47 CondensedLight"/>
              </a:rPr>
              <a:t> once submitted and accepted the manual form process must be utilized to correct the subreq valu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68CE3C0-7B2D-41D3-84C8-0B6C467AC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FDF7686-A544-415A-8244-95FFB0E7D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7086600" y="6332400"/>
            <a:ext cx="68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0D27-8B5E-4199-80AF-1BD6E4737CC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qtso.com/ravendownload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help@qtso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Image depicting the JAVA logo, the CMS logo, and the title Inpatient Rehabilitation Validation and Entry System (jIRVEN)."/>
          <p:cNvPicPr/>
          <p:nvPr/>
        </p:nvPicPr>
        <p:blipFill>
          <a:blip r:embed="rId1"/>
          <a:stretch/>
        </p:blipFill>
        <p:spPr>
          <a:xfrm>
            <a:off x="1208160" y="1128600"/>
            <a:ext cx="672768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5720" y="1599840"/>
            <a:ext cx="736596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ort/ Ex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5720" y="1599840"/>
            <a:ext cx="76518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xt layout based on IRF-PAI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 for submission to AS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4200" y="374760"/>
            <a:ext cx="824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idation Utility Tool (VU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6080" y="1599840"/>
            <a:ext cx="7539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UT – Validation Utility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lidate IRF-PAI submission files in XML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forces edits that are mapped to IRF-PAI items, as published in IRF-PAI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gration To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5720" y="1600200"/>
            <a:ext cx="749124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es Facility data for Inpatient Rehabilitation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grate Patients from IRVEN into j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selects the .mdb from 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tient Match is utilized during migration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tive database and\or the archive database may be migrate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s Last Assessmen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2d2d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2d2d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Downloa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15720" y="1599840"/>
            <a:ext cx="76518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RVEN can be download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s://www.qtso.com/IRVENdownloa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M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https://www.cms.gov/Medicare/Medicare-Fee-for-Service-Payment/InpatientRehabFacPPS/Software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of the reference documents can also be located at the above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71360" y="1442880"/>
            <a:ext cx="753876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QTSO help de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339-93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elp@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4200" y="377640"/>
            <a:ext cx="8244000" cy="63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VEN vs jIRV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5720" y="1599840"/>
            <a:ext cx="75582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l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security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urity Ques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ssword Expiration every 60 day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notifications when latest version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utilized (internet connection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VEN vs jIRV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6080" y="1600200"/>
            <a:ext cx="70228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questions now appear in a tre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instead of tab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running form on one page vs. a section per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s are applied as questions are 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6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 \ Error box is on the same screen as the data entry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6080" y="1599840"/>
            <a:ext cx="7664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atient Rehabilitation and Patient Assessment Collection User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creation of multiple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s Patient Match to prevent duplicate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s by specific column if heading is sele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arch for Patients by using specific search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16080" y="1599840"/>
            <a:ext cx="670248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8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nctionality can be turned on and of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yboard alterna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4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,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creen reader software (i.e. JAW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peech recognition software (i.e. Dragon Naturally Speak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4200" y="378000"/>
            <a:ext cx="82440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16080" y="1599840"/>
            <a:ext cx="7407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is prompted to back up database when exiting j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IRVEN back up should be directed to an external dr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restore of database (i.e. PC cras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backup of database during 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6080" y="1600200"/>
            <a:ext cx="67118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ailable for each item of the form by selecting the Help Icon, Help Menu, or F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IRVEN User Guide is included with the installation of jIRV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800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6080" y="1600200"/>
            <a:ext cx="7470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tem Administrat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or Delete Facility, Users, and Patients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Modify, Inactivate, or Delete assessm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or Export  Patient and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15720" y="1599840"/>
            <a:ext cx="73659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Ent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or Edit Patient data for all assessm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 user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User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Jennifer Parrish</cp:lastModifiedBy>
  <cp:lastPrinted>2012-04-28T10:13:26Z</cp:lastPrinted>
  <dcterms:modified xsi:type="dcterms:W3CDTF">2012-05-11T11:55:50Z</dcterms:modified>
  <cp:revision>765</cp:revision>
  <dc:subject>MDS Classroom Training</dc:subject>
  <dc:title>Section L: Oral/Dental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B580D97-3256-43EF-8DEF-5DCD0C1E0C85</vt:lpwstr>
  </property>
  <property fmtid="{D5CDD505-2E9C-101B-9397-08002B2CF9AE}" pid="3" name="ArticulatePath">
    <vt:lpwstr>MDS_PP_SecL_092410_LS</vt:lpwstr>
  </property>
  <property fmtid="{D5CDD505-2E9C-101B-9397-08002B2CF9AE}" pid="4" name="ArticulateProjectFull">
    <vt:lpwstr>G:\MDS\development\MDS_SectionL\MDS_PP_SecL_092410_LS.ppta</vt:lpwstr>
  </property>
  <property fmtid="{D5CDD505-2E9C-101B-9397-08002B2CF9AE}" pid="5" name="ArticulateUseProject">
    <vt:lpwstr>1</vt:lpwstr>
  </property>
  <property fmtid="{D5CDD505-2E9C-101B-9397-08002B2CF9AE}" pid="6" name="_AdHocReviewCycleID">
    <vt:r8>-1408970448</vt:r8>
  </property>
  <property fmtid="{D5CDD505-2E9C-101B-9397-08002B2CF9AE}" pid="7" name="_AuthorEmail">
    <vt:lpwstr>Caroline.Gallaher@cms.hhs.gov</vt:lpwstr>
  </property>
  <property fmtid="{D5CDD505-2E9C-101B-9397-08002B2CF9AE}" pid="8" name="_AuthorEmailDisplayName">
    <vt:lpwstr>Gallaher, Caroline D. (CMS/OCSQ)</vt:lpwstr>
  </property>
  <property fmtid="{D5CDD505-2E9C-101B-9397-08002B2CF9AE}" pid="9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10" name="_NewReviewCycle">
    <vt:lpwstr/>
  </property>
</Properties>
</file>