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97044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FC9DF2E-945D-4EF1-B9EF-8BC39013A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E317EFB-F29B-42E1-926F-FE6CB5676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47E53FC-E7E6-4521-A5A6-5AC3AFCEE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A672FB3-9F7E-46F2-B83C-801AEB0D4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F08601D-9AAE-4284-AB30-664AEBE98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BA94673-C644-4A88-A0BE-41674832A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EACDFC9-EBBD-41B8-BB0A-56DC0D163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7F86B96-0992-4B87-BBE5-D3FCB2C18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B0BF427-8DF8-4D49-858C-326B3E766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A699D5E-C726-4AC1-85B8-F530EE5DE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A7C3482-A31E-4589-8087-7EF9C5CFE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Univers 47 CondensedLight"/>
              </a:rPr>
              <a:t>NOTE:</a:t>
            </a:r>
            <a:r>
              <a:rPr b="0" lang="en-US" sz="800" spc="-1" strike="noStrike">
                <a:solidFill>
                  <a:srgbClr val="000000"/>
                </a:solidFill>
                <a:latin typeface="Univers 47 CondensedLight"/>
              </a:rPr>
              <a:t> once submitted and accepted the manual form process must be utilized to correct the subreq valu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B4D1562-6C4C-4511-BBED-DCE3930B6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89C7956-69A0-487F-B3B4-166644BB8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ooter Placeholder 3"/>
          <p:cNvSpPr/>
          <p:nvPr/>
        </p:nvSpPr>
        <p:spPr>
          <a:xfrm>
            <a:off x="7086600" y="6332400"/>
            <a:ext cx="685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425D-FDB6-4927-96E1-01927623A9B4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8" descr="Title_Pages_nopeopl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qtso.com/ravendownload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help@qtso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Image depicting the JAVA logo, the CMS logo, and the title Inpatient Rehabilitation Validation and Entry System (jIRVEN)."/>
          <p:cNvPicPr/>
          <p:nvPr/>
        </p:nvPicPr>
        <p:blipFill>
          <a:blip r:embed="rId1"/>
          <a:stretch/>
        </p:blipFill>
        <p:spPr>
          <a:xfrm>
            <a:off x="1208160" y="1128600"/>
            <a:ext cx="672768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15720" y="1599840"/>
            <a:ext cx="736596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Data Entr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381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ort/ Expo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15720" y="1599840"/>
            <a:ext cx="765180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ML layou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xt layout based on IRF-PAI Data Specifi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r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ML layout for submission to ASA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4200" y="374760"/>
            <a:ext cx="82440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lidation Utility Tool (VU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216080" y="1599840"/>
            <a:ext cx="753912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UT – Validation Utility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alidate IRF-PAI submission files in XML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forces edits that are mapped to IRF-PAI items, as published in IRF-PAI Data Specifi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gration To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15720" y="1600200"/>
            <a:ext cx="749124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rates Facility data for Inpatient Rehabilitation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igrate Patients from IRVEN into jIRV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r selects the .mdb from IRV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tient Match is utilized during migration proc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ctive database and\or the archive database may be migrated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s Last Assessment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74"/>
              </a:spcBef>
              <a:buClr>
                <a:srgbClr val="2d2db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74"/>
              </a:spcBef>
              <a:buClr>
                <a:srgbClr val="2d2db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9120" y="274320"/>
            <a:ext cx="82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Downloa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215720" y="1599840"/>
            <a:ext cx="765180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IRVEN can be downloaded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QTS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s://www.qtso.com/IRVENdownload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MS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3333cc"/>
                </a:solidFill>
                <a:uFillTx/>
                <a:latin typeface="Arial"/>
              </a:rPr>
              <a:t>https://www.cms.gov/Medicare/Medicare-Fee-for-Service-Payment/InpatientRehabFacPPS/Software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of the reference documents can also be located at the above lin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71360" y="1442880"/>
            <a:ext cx="7538760" cy="41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QTSO help des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800-339-93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elp@qts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4200" y="377640"/>
            <a:ext cx="8244000" cy="63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RVEN vs jIRV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15720" y="1599840"/>
            <a:ext cx="75582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l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security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urity Ques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ssword Expiration every 60 day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notifications when latest version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utilized (internet connection requi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RVEN vs jIRV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6080" y="1600200"/>
            <a:ext cx="70228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questions now appear in a tre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instead of tab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running form on one page vs. a section per 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s are applied as questions are answ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6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 \ Error box is on the same screen as the data entry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216080" y="1599840"/>
            <a:ext cx="76644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atient Rehabilitation and Patient Assessment Collection User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4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y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for creation of multiple 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4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es Patient Match to prevent duplicate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rts by specific column if heading is selec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earch for Patients by using specific search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16080" y="1599840"/>
            <a:ext cx="670248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8 acce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unctionality can be turned on and of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eyboard alternati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404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ey,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ows utilization of screen reader software (i.e. JAW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ows utilization of speech recognition software (i.e. Dragon Naturally Speakin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4200" y="378000"/>
            <a:ext cx="82440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16080" y="1599840"/>
            <a:ext cx="74073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r is prompted to back up database when exiting jIRV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IRVEN back up should be directed to an external dr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for restore of database (i.e. PC crash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backup of database during ins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6080" y="1600200"/>
            <a:ext cx="671184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vailable for each item of the form by selecting the Help Icon, Help Menu, or F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IRVEN User Guide is included with the installation of jIRVE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800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16080" y="1600200"/>
            <a:ext cx="74707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tem Administrato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, Edit, or Delete Facility, Users, and Patients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, Edit, Modify, Inactivate, or Delete assessmen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or Export  Patient and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15720" y="1599840"/>
            <a:ext cx="73659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a Ent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or Edit Patient data for all assessment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 user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Data Entr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User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381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9:19:05Z</dcterms:created>
  <dc:creator>Centers for Medicare &amp; Medicaid Services</dc:creator>
  <dc:description/>
  <dc:language>en-US</dc:language>
  <cp:lastModifiedBy>Jennifer Parrish</cp:lastModifiedBy>
  <cp:lastPrinted>2012-04-28T10:13:26Z</cp:lastPrinted>
  <dcterms:modified xsi:type="dcterms:W3CDTF">2012-05-11T11:55:50Z</dcterms:modified>
  <cp:revision>765</cp:revision>
  <dc:subject>MDS Classroom Training</dc:subject>
  <dc:title>Section L: Oral/Dental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BB580D97-3256-43EF-8DEF-5DCD0C1E0C85</vt:lpwstr>
  </property>
  <property fmtid="{D5CDD505-2E9C-101B-9397-08002B2CF9AE}" pid="3" name="ArticulatePath">
    <vt:lpwstr>MDS_PP_SecL_092410_LS</vt:lpwstr>
  </property>
  <property fmtid="{D5CDD505-2E9C-101B-9397-08002B2CF9AE}" pid="4" name="ArticulateProjectFull">
    <vt:lpwstr>G:\MDS\development\MDS_SectionL\MDS_PP_SecL_092410_LS.ppta</vt:lpwstr>
  </property>
  <property fmtid="{D5CDD505-2E9C-101B-9397-08002B2CF9AE}" pid="5" name="ArticulateUseProject">
    <vt:lpwstr>1</vt:lpwstr>
  </property>
  <property fmtid="{D5CDD505-2E9C-101B-9397-08002B2CF9AE}" pid="6" name="_AdHocReviewCycleID">
    <vt:r8>-1408970448</vt:r8>
  </property>
  <property fmtid="{D5CDD505-2E9C-101B-9397-08002B2CF9AE}" pid="7" name="_AuthorEmail">
    <vt:lpwstr>Caroline.Gallaher@cms.hhs.gov</vt:lpwstr>
  </property>
  <property fmtid="{D5CDD505-2E9C-101B-9397-08002B2CF9AE}" pid="8" name="_AuthorEmailDisplayName">
    <vt:lpwstr>Gallaher, Caroline D. (CMS/OCSQ)</vt:lpwstr>
  </property>
  <property fmtid="{D5CDD505-2E9C-101B-9397-08002B2CF9AE}" pid="9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10" name="_NewReviewCycle">
    <vt:lpwstr/>
  </property>
</Properties>
</file>