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13CC4-EC7C-4471-ACD4-899ED68F00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99F01-FFE0-40DE-B9DC-7DCD946D05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43578-C7F8-45E5-87BD-F890ACA15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E74C2-472E-4057-8E45-D2484574F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9C56A-7A12-4E91-BA81-96F762F83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7853D-FB72-49F5-8DF9-4FCBD4CA6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C72D-AE06-47CD-BF2E-CA989E979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E9FF7-1534-4AF1-AD02-3EDB935D8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F135B-FC6A-4A3B-A24A-3C10E03283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 resident assessment validation and entry system, inpatient rehabilitation validation and entry system, HH assessment validation and entry system, LTCH Assessment Submission Entry and Repor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D3D2C-AD3C-49F7-9B9E-133413B42B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63BC-72D8-4875-B2C4-37889DB1B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60BB-F49C-470C-B6DA-10C6E335F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AD1C-94CB-4C10-B0EF-FFAA6228B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BF27-0246-4796-8046-B585035E1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438A-4D7E-4C96-BC07-BBF6BAB8A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9AB4-53E8-4707-9D2B-D6312B2CB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BF4B-50A5-468E-B0E8-A07686956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70F9-76AE-4C40-92C9-977D2BD63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3100-766D-4119-A5C6-2A61F1FA6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D88C-2F90-4A3A-9F1D-76F20970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4C8D-F6DC-4838-AF5A-2AF23CBB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2B67-4354-4B4B-83F8-E378A29B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05CBB-9EA2-4C98-9EEC-E9BF621E6D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HHS Logo"/>
          <p:cNvPicPr/>
          <p:nvPr/>
        </p:nvPicPr>
        <p:blipFill>
          <a:blip r:embed="rId2"/>
          <a:stretch/>
        </p:blipFill>
        <p:spPr>
          <a:xfrm>
            <a:off x="0" y="0"/>
            <a:ext cx="762120" cy="9144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CMS Identity Mark"/>
          <p:cNvPicPr/>
          <p:nvPr/>
        </p:nvPicPr>
        <p:blipFill>
          <a:blip r:embed="rId3"/>
          <a:stretch/>
        </p:blipFill>
        <p:spPr>
          <a:xfrm>
            <a:off x="7467480" y="0"/>
            <a:ext cx="1676520" cy="61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vision of National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259056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ionalizing Data Submission for ACA Section 3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cy Mandl, 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sion of National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ment Data Uses and Us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ending on the provider type, this data is used for  purposes such as payment, fraud investigation, quality measurement, and  survey and certification purposes, care planning, public reporting, and resear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es CMS to monitor and report on the  quality and effectiveness and services provided to beneficia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6C48F-E11A-4428-B461-6D1CF64445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U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es consumers to make educated choices about providers (e.g., Nursing Home Compar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es quality improvement within provid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s include providers, CMS CO, State and Regional Survey and Certification, OIG, Ombudsmen, researchers, and oth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8E49E-3B25-499E-9E3E-7E46A16DC5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Partn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serve as liaison between policy staff and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Survey A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al Off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MS Stakeholders (e.g., Office of Clinical Standards and Quality, Survey &amp; Certification, Centers for Medicare, Office of Information Syste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rs/ Suppl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538BF-C7AE-42C6-8C12-9B845A92F4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Partn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lity Improvements Organiz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scal Intermediaries/ Medicare Administrative Contra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al Home Health Intermedi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rediting Organiz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nd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porations and Researc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Federal A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5784C-4EF5-4D3D-9C2B-856686F164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vider Stakehol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QIES supports data for over  291,100 providers/supplier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Hospital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, e.g. acute, LTCHs, IRFs, CAHs, etc.: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6,179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Skilled Nursing Facility (SNF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15,10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Nursing Facility (NF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609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ICF/MR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6,43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Home Health Agency (HHA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11,556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Hospic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3,52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Outpatient Physical Therapy (OPT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2,51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Comprehensive Outpatient Rehabilitation Facility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(CORF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339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X-Ray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56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BE949-B3AB-4062-BE3F-866568A939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-Stage Renal Dialysis Facility (ESR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,6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ral  Health Clinics (RHC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,8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bulatory Surgical Centers (ASC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,3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gan Procurement Organization (OPO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unity Mental Health Centers (CMHC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derally Qualified Health Centers (FQHC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,8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sychiatric Residential Treatment Facilities (PRTF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nical Laboratory Improvement Amendments (CLI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23,6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3F4E2-06CF-476B-A704-AC0725550D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mi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e will now hear more about the QIES data submissions process as it relates to your data submiss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B1723-5DD3-4A51-BCEC-8F1059BEAA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5CE77-0F33-4C97-A5FB-C254FFE641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Are W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Division of National Systems is located within the Data and Systems Group (DSG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SG is located within the Center for Medicaid and CHIP (Children’s Health Insurance Program) Services (CMCS) at CM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We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7524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CMS’ fulfillment of statutory quality assurance responsibilities under the Social Security A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major initiatives, such as Home Health Compare and Nursing Home Comp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, evaluate and implement data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operations related to the submission of the data collected for CMS using specified assessment tools,  e.g., the IRF-P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09AB5-910B-4A8E-96BC-BE5CE16EAD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We Do?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440" y="17524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d collect quality data on certified providers /suppliers, e.g. Home Health Agenc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Survey &amp; Certification efforts, e.g. Skilled Nursing Facil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data system operations for data that is used to improve the quality and effectiveness of services provided by Medicare/ Medicaid/ CL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BEFFF-C41B-43E1-B394-2DA1E920E1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We Do?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NS supports the submission of data files to CMS system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lity Improvement and Evaluation System (QIE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of QIES is the Assessment Submission and Processing (ASAP) System which will be used to collect LTCH submis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data is stored in the QIES National Datab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09410-061E-43C8-8EAE-4CD4BCBF8B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IES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at Is QIE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lity Improvement and Evaluation System (QIES) serves as the focal point for resident and patient assessments, quality indicators, survey and certification, complaint, and enforcement information concerning providers and suppli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QIES we maintain and collect quality data on certified providers/suppli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C4C0F-D3DE-4977-A477-EDC600BDC5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4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IES permits information to be shared quickly and conveniently between federal and state govern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IES users total over 100,0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ins data on 17 different types of providers/ suppliers totaling over 291,100 active facilities (as of 2/2011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B25F2-634E-40F0-AA77-2F7DE2FC2E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21D4B-FA44-4970-A695-4D7B3543C9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IES: The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IES already provides data submission for all Certified Inpatient Rehabilitation Facilities, Home Health Agencies, Skilled Nursing Facilities/ Nursing Facilities,  and Swing Bed uni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inning October 1, 2012, QIES will also provide for data submission for all certified LTCHs as we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Assessment 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44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ssment Data instruments currently submitted by specific provider types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atient Rehabilitation Facility Patient Assessment Instrument, IRF-P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um Data Set,  MDS 3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come and Assessment Information Set, OASIS-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est: LTCH CARE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free software for all of these sett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RAVEN, IRVEN, HAVEN, LA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8D297-3912-48A1-A184-507050CE49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4T19:04:58Z</dcterms:created>
  <dc:creator>CMS</dc:creator>
  <dc:description/>
  <dc:language>en-US</dc:language>
  <cp:lastModifiedBy>Jennifer Parrish</cp:lastModifiedBy>
  <cp:lastPrinted>2012-04-28T11:44:49Z</cp:lastPrinted>
  <dcterms:modified xsi:type="dcterms:W3CDTF">2012-05-21T14:31:36Z</dcterms:modified>
  <cp:revision>1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953846888</vt:r8>
  </property>
  <property fmtid="{D5CDD505-2E9C-101B-9397-08002B2CF9AE}" pid="3" name="_AuthorEmail">
    <vt:lpwstr>Caroline.Gallaher@cms.hhs.gov</vt:lpwstr>
  </property>
  <property fmtid="{D5CDD505-2E9C-101B-9397-08002B2CF9AE}" pid="4" name="_AuthorEmailDisplayName">
    <vt:lpwstr>Gallaher, Caroline D. (CMS/OCSQ)</vt:lpwstr>
  </property>
  <property fmtid="{D5CDD505-2E9C-101B-9397-08002B2CF9AE}" pid="5" name="_EmailSubject">
    <vt:lpwstr>Here are the Powerpoint slides and presentation handouts that I mentioned to you yesterday that ii will also need to have posted on the IRF QRP webpage</vt:lpwstr>
  </property>
  <property fmtid="{D5CDD505-2E9C-101B-9397-08002B2CF9AE}" pid="6" name="_NewReviewCycle">
    <vt:lpwstr/>
  </property>
</Properties>
</file>