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8F0A44-167F-4B63-9FAF-D088E7D1D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0891A8-5821-4A6D-9EE8-15BC002E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6BA442-777F-4F04-9728-5E0C4DFD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E949EE-D78D-43CB-8566-763CEB2EF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96CC93C-C970-4037-B322-090C47B48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119BA4-D5D8-4C07-A490-550CE542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FD5A83-1C28-47ED-8C95-7CC9153EC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BB764F-8CDA-48CF-A4E7-627A5CCF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772874-09D6-4262-A752-90751F1B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F05699-B890-46F5-B325-BC1CE207A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A71E99-2F2B-45E9-846C-997AD05E6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691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59D9-78EC-4BCF-B3C9-D13D170B870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5361480" y="63673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977480" y="6367320"/>
            <a:ext cx="24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CH QRP TTT Conference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age of the JAVA logo and CMS logo and the text Long Term Care Hospital Assessment Submission Entry and Reporting."/>
          <p:cNvPicPr/>
          <p:nvPr/>
        </p:nvPicPr>
        <p:blipFill>
          <a:blip r:embed="rId1"/>
          <a:stretch/>
        </p:blipFill>
        <p:spPr>
          <a:xfrm>
            <a:off x="1066680" y="781200"/>
            <a:ext cx="701064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LASER CARE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LASER CARE items, as published i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qtso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LongTermCareHospital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s are applied as questions are ans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Care Hospital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LA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data set by selecting the Help Icon, Help Menu, or F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User Guide is included with the installation of LASE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Charles  Padgett</cp:lastModifiedBy>
  <cp:lastPrinted>2012-04-28T19:42:18Z</cp:lastPrinted>
  <dcterms:modified xsi:type="dcterms:W3CDTF">2012-07-24T13:50:16Z</dcterms:modified>
  <cp:revision>770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</Properties>
</file>