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DS National Confer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3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arch 20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3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3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5B3A-B010-4A53-98EB-9CE48271F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E976-32C2-46A1-8836-127E64CE6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ch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DS National Confer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D55BA7-918A-4641-AB7C-BC29C86D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9A235D-22C6-41F2-AEF8-B07C778A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7C735E-BEDC-4CBB-BF30-5792796C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6645D6-E4E6-4054-91DE-3F01AC90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BE3F11-4930-4761-B6E7-89B83871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F972D2-2826-42F8-828D-26630C85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60A89C-938C-4BB5-B48E-344409C0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55DC4A-9B91-4E68-8214-553A05BD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231853-9DD8-4F68-AF0C-3CD3E17D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98FF10-3422-44F1-B3D6-85A5041D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6B471B-3069-4D63-BDD6-2C4E8D8E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CFB220-8E7D-4E74-982E-2F394DDA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C123C4-8641-43D9-AC9C-4E893CA1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38DFB1-7B2B-4951-8E26-277EA227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221548-D1C5-411F-8092-6AFE95ED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334DAE-6FBB-47D4-BBA2-A7FB7F80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BE2CF9-55C2-422F-A715-283D6E59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CCD465-B65D-4B8B-96F2-EFC8969C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1E210B-2FCF-4DE7-A7D1-72660928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17252E-861E-455F-8AED-CE54052C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3955D8-1B31-4BAD-844E-155A89B2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34B9A6-7817-4065-B5D3-3BA4C211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539B86-290C-426B-BF1A-F11F811E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E49411-8AB1-49C3-A6A9-05264C02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77D610-AC30-4050-B368-D0393E2D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AC6A40-609F-45E1-9051-175F3786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DFD430-573D-49CA-BC52-D8BCFBF5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C0A795-3BA3-4DFD-8D1C-4E2D62E9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A43AB8-A3BF-4C92-A00C-D19A4453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793724-CCE8-4088-8DEC-B892E000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36E90-ED27-465B-8B4D-35FBFA60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3769A8-FEFB-4E5F-A0C8-77AB5CA0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77782B-2496-4C54-AC6A-23337C55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31DB5B-F94C-4804-B58D-20796681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2E2906-12BD-40FF-9F49-B77277DC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D3E03F-0F94-45BE-B921-85F1D238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D3D39D-4527-443B-9D5D-D78820DA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CD649C-2C2E-4CEB-85EF-54EF4372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C5E60B-55DE-4731-9EFF-F24C750C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9E3BE1-B8E6-4C48-95C2-DDA40494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62ACF3-CD1B-4EB3-9259-1EC5756A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F5FA6-CF6B-488D-AFE6-D5A41BFE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DB2442-9E67-4E85-8830-1B11AC24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E757BA-003C-40AF-BD31-A904FDF6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A8458E-CD3C-48EC-A17B-757E660F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63D29E-DDBB-4041-A603-01BC1E8A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4F4B97-AC3E-40AF-A25B-1C340919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FC9E9-BB8C-4262-BDC6-F8A7FE4A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E7D8C-0A50-41D5-8AFF-5D0B4F77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376A1-88F5-4022-9AE2-06FE98FB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9A4A7-A1B8-4D08-9555-A0B540AC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C1A32-FCB9-4B28-950A-94982EEA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B5E03-0705-483F-87EA-198693C7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0C89D-0105-48A3-BF64-2F05D7E4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3CAB5-36C4-4BB7-9E14-D46B6501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39208-7A7A-425A-9730-F731A616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831E7-FD93-4643-8E53-52CBAA02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6CD87-9565-4187-AE90-353C788E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C5B49-FBBB-425C-8A91-F25D816D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E584D-9EBC-40CB-9EE6-F48881BA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330F4-8BA2-445C-990C-B8F7C30F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6A302-9E63-4E60-B3B5-39D8993B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B5AE2-5054-4ADE-9A88-E1A830AC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8D7CD-9C8B-4142-B90B-930F7289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0B6AA-9838-42A3-B72A-41D42989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054CD-6C9F-4592-855A-9CBB0A79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8C6E2-F212-4A62-8FF7-FF806101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CB94C-9DCB-44B4-98F7-79481393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965FF-C215-4427-A31E-40C997A6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EB650-B748-40AE-8AB1-44B2265E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1DF77-897B-4D69-BE29-39046B6C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26A640-8AD6-45C6-82F8-900D25DE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823FF-9B4C-4E58-B222-8E0F60FF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1EFB42-DF96-4672-B922-6CC84171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43103-9672-4F76-90E8-6D95BAE9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C8312-409A-4036-851D-7244081F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39D881-0CB6-4CE9-8F94-A5358D1F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440D70-FCEB-4B00-8652-5BCA7138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EAB8B4-4DE6-4CDB-999A-41286017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5A2356-CECE-4423-935D-51B9A841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8C14D7-74C8-45F0-96C8-DA393B1A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2EF97-D744-4040-B313-4C723691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4E5D8-DB7A-409E-A3E8-C45C433A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1702A-6D4F-477F-93FF-4349B4DC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3D0E6-2B30-426A-B8AD-0BE896A9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2D15F-BC38-40AB-B6BA-08EDCCA8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91B52-2F73-44DC-B8B8-E37F7317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26649-3750-48FE-ABB5-1CD17D2A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25D36-AF6A-43CA-AD44-C1D5B4E9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D1559-AD8F-4C7A-AB16-5E086D86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B514AA-44F8-4852-A522-9D5B95E6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774D8-A1A3-4861-9ED1-51B434A6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5752F-0BEF-4A8B-9D28-565CD6F1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271A7-9CEA-470F-9C13-75FDD06F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B5E58-CAF8-4768-AA48-92217C6E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71004-F024-49E9-A9B5-B4837273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78EC9-5D11-434C-BBFA-6258CE59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EFDF3E-1396-4A1D-81B0-F68871F7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866FEF-EA0E-4047-9158-F5BDC5B2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1A46C-E59E-44F8-8E04-2F8E3E07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16A5D-2B3A-4EE6-B057-6FBD74AE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1F557-CE72-47D7-9FB9-C220CD06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55D94-396E-412D-A882-A84AE000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74BEA-9CCD-41F5-8081-7938E7F8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672B44-74AF-42BE-A758-0D2DD60A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A465DB-8458-49F9-828B-E76F8AC4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6F2D5-FE0C-4ED2-B109-F7706351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6AA88-2D22-4835-946F-BA870DB0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14206-C451-405D-8C81-824CB68B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8DAE3E-203A-4B1F-960D-82C7CC2D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8043F-A861-447D-A063-E4BFE231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4CD7CD-1470-4CFB-9FCA-4AD37F76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21226B-D4B9-41BA-8F12-57068C42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213B3B-7158-4835-984D-4BED9025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773445-1EB2-4035-AC19-B272FD25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AF421-3D2F-4050-BC89-4ECBFCBA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C7146C-B957-4F1F-A85B-B6445FC8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24235C-63B9-4E5F-BB5C-58EAF406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54B22D-3A84-436A-8D86-9B9EEF7B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19EB91-3268-4B8C-9552-23C2805B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DB818A-C450-4BC6-AC51-488F9A36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992711-11E2-48CF-8485-9410C04F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EDF357-98B6-4779-9BE4-D6B18929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949F0A-5BC3-4A79-8876-86BA5C9F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652A27-7B12-4331-A4E2-87C1E161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572AFA-3BFD-4FC9-B0FA-CBD7D1AC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6AC9E5-2A62-4EAA-988C-1AAF8A62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917AE9-EF0F-4059-B63D-C9076509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909761-99B0-43F6-9F9E-578E3430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311C84-41B1-4AA4-A41C-045703F5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A7F3F6-DEF6-4F1B-BC61-4FFBEE77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181A44-7ADC-45FD-92AF-23FAE72E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012 MDS National Co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7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BAF7-57B3-4BC2-9DFB-6E74CEF6C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0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93DB-8D1B-4F68-BFD7-309CD8FDE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940F-E5E7-42CA-8B3F-79EC606CB9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623D-AD23-4580-A5A2-4AF2D4BBE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5DA4-AD91-4112-AC15-31FE9458BF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9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1628-AB61-43E5-9025-53B999A46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99F3-48FD-4671-A127-CDB1CCA9F5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EE91-B835-4117-9357-09EFA58E01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6D41-C497-4000-99DD-35FD32696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1FFF-4FED-402D-8220-8D860763FC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75F5-ABD8-46AA-8B04-183E96E41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615F-3CBA-4FFA-9667-07A57AF8D7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4CED-CBA4-4E7D-A64E-83EF06CB8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492C-416C-4542-A4A4-2EB6C6A8E2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7563-10D6-498F-819D-68DD77A37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6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219D-BAE0-4A23-AD74-0246F4F42D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2A3B-F6F1-4A41-964B-67BD84541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4D6A-040E-4B2C-90E4-49A1A3EB76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D92C-7094-4841-8E0F-8525F7B1C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873B-561B-4376-A52A-A0B0E54217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9C53-576F-4874-88D4-902A66486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2400-7943-41AB-AA34-B53332FA8E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cms.gov/nursinghomequalityinits/30_nhqimds30technicalinformation.asp" TargetMode="External"/><Relationship Id="rId2" Type="http://schemas.openxmlformats.org/officeDocument/2006/relationships/hyperlink" Target="https://www.qtso.com/mds30.html" TargetMode="External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s://www.qtso.com/mds30.html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MDS 3.0 Errors and Reports – Don’t Let Them Trip You Up</a:t>
            </a:r>
            <a:endParaRPr b="0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 Header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Date/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ID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r User ID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File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Code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ID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Informatio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Completion Date/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Records in Submission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Invalid Rec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Records Processed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Accep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Production Records Rejected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Duplicate Records: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Submitted  Without Facility Authority: (useri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Submitted  But Not Allowed   (subre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# of Messages for Production Recor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Report Header: Submission &amp; Facility Information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808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Submissio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NH Final Validatio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/Ti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22/2012 14:06: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Completion Date/Ti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22/2011215:15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File Status:                      Comple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Cod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94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ter User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EST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Report Header: Processing Information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Submission Repo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S 3.0 NH Final Validation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Records in Submission Fi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Invalid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Records Proces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Accep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Rejec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Duplicate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Submit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Facility Author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Submit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Allow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# of Message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cord Header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processing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mt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(last, fir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_Int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050 (type of transaction) – changed 4/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200 (type of provider cod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 Subset Code (IS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A (OBRA RF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B (PPS R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C (PPS OMRA RF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D (SB clinical c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E (first assessmen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F (entry/discharg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G (type of discharge) – new 4/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1100E (attestation date) Data Spec Version #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Fil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cord Heade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cord:  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pte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Record 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mt_ID:  317144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Name:  TEST1, MDSname1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_Int_ID:  1576613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SSN:  899741056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200:      1   A0310A: 99    Target Date:  04/14/20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B: 01   A0310C:    0    Production/Test Indicator:  PRODU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D:   ^   A0310E:    1    Attestation Date (X1100E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F: 99   A0310G:    ^    Type of Transaction (A0050):  NEW RECO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em Subset Code:  NP         Data Specs Version #:  1.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 File Name:                     IN_FAC11940000_RES09434_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20729_A00_NP199990_01.xm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cord Detail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ight Arrow 5"/>
          <p:cNvSpPr/>
          <p:nvPr/>
        </p:nvSpPr>
        <p:spPr>
          <a:xfrm>
            <a:off x="4724280" y="1752480"/>
            <a:ext cx="685800" cy="889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9999"/>
          </a:solidFill>
          <a:ln w="381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ight Brace 6"/>
          <p:cNvSpPr/>
          <p:nvPr/>
        </p:nvSpPr>
        <p:spPr>
          <a:xfrm>
            <a:off x="6629400" y="2209680"/>
            <a:ext cx="304920" cy="619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619200"/>
              <a:gd name="textAreaBottom" fmla="*/ 611280 h 6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3"/>
                  <a:pt x="10800" y="886"/>
                </a:cubicBezTo>
                <a:lnTo>
                  <a:pt x="10800" y="9914"/>
                </a:lnTo>
                <a:cubicBezTo>
                  <a:pt x="10800" y="10357"/>
                  <a:pt x="16200" y="10800"/>
                  <a:pt x="21600" y="10800"/>
                </a:cubicBezTo>
                <a:cubicBezTo>
                  <a:pt x="16200" y="10800"/>
                  <a:pt x="10800" y="11243"/>
                  <a:pt x="10800" y="11686"/>
                </a:cubicBezTo>
                <a:lnTo>
                  <a:pt x="10800" y="20714"/>
                </a:lnTo>
                <a:cubicBezTo>
                  <a:pt x="10800" y="2115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304920" y="2971800"/>
            <a:ext cx="8534160" cy="2438280"/>
          </a:xfrm>
          <a:prstGeom prst="rect">
            <a:avLst/>
          </a:prstGeom>
          <a:noFill/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Straight Arrow Connector 8"/>
          <p:cNvCxnSpPr/>
          <p:nvPr/>
        </p:nvCxnSpPr>
        <p:spPr>
          <a:xfrm>
            <a:off x="4343040" y="5410080"/>
            <a:ext cx="1080" cy="354960"/>
          </a:xfrm>
          <a:prstGeom prst="straightConnector1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items to which the error message per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s the submitted values of the items listed in the MDS 3.0 Item(s)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unique message number and type of message (fatal/warning).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text of the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Exampl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, A0050, Z050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3/21/2011, 1, 01/20/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810d      W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ubmitted Late: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 is more than 14 days after Z0500B on this new (A0050 equals 1)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Exampl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0100A, RECALCULATED_Z010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160, BA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616a       WARNING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rect HIPPS/RUG Value: The submitted value of the HIPPS/RUG code does not match the value calculated by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Various Destinations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record is edited for potential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Error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al  -  “Really Bad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is not accepted into ASAP system, i.e. rejec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correct record and submit ‘new’ re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nings  -  “Issue” to  “Information Ale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is accepted into ASAP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determine if need to address/fix somet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The Itinerar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 Statu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y Final Validat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ASPER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unctionality Issu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ntry software should be ensuring that the data entered is compliant with the Data Spec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allowing submission of a record, the software shou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active items are 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the data is compliant with all ed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errors/messages to the user for missing items and failed 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Fat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Flow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/Softwa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Warning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and Sequenc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al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07 Duplicate Asse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record is a duplicate of a previously submitted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30 Missing Ite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the Item Subset Code (ISC) submitted in this record, this item is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76 Invalid Valu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submitted for this item is not an acceptabl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573a Inconsistent D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date listed must be prior to or the same as the second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93a Invalid FAC_I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C_ID submitted in this file does not identify a valid provider in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93b Unauthorized Submitt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r's User ID is not authorized to submit data on behalf of the provider identified by the FAC ID in this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3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58 No Authority to Collect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rights require federal and/or state authority to collect MDS data.  There is no authority to collect the data submitted.  Data was not accep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04 Invalid XML File Forma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bmitted file is not structured properly or contains tags longer than 30 characters and cannot be process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4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68b Inconsistent O I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2300 minus A1600 is less than or equal to 13 days, then items O0100A1 through O0100Z1 in Column 1 must equal 0, 1, or dash (-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783 Inconsistent X08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modification value submitted in X0800 is not incremented by one (1) from the previously submitted modification value for this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Work Flow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 Record (-1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does not know which files were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ing validation report(s)/activity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in original rather than a modification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uthorized submitter (corporate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)      (-3693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uthority to collect (sub-req) (-36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User/Software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ted value is in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understood the question/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ntry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ignored/overrode the issued softwar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n’t answer (code) required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didn’t issue error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User/Software Fatal Error Examples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Dates (date 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573a, -3573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Skip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704b, -3612a, -3528c, -3779a, -3809, -3779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668b, -3752, -3608, -3752, -3559b, -3557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3691, -3676,  -36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zipping the submiss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record format in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cluding required control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ccurate calculation of Item Subset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formatting of date or ICD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Planning the Journe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vie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 Final Validation Report (FFV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ection 5 of the Provider User’s Guide h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e intimid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MDS 3.0 reports, a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atal Error Exampl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file not zipped (-1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not in correct XML format (-1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cluded all required control items (-1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_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_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 code does not match A0310 values (-37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Format (dates, ICD codes, text values, numbers) (-3677, -3591, -3570, -3688,-37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0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806 Inconsistent A0100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submitted for A0100C (State Provider Number) does not match the State Provider Number in the QIES ASAP System for the provider identified by the FAC_ID in the f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31 Resident Information Updat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 identifying data submitted in this item is not the same as the data previously submitted for this resident.  Verify that the new information is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32 Resident Provider Upd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records indicated that a different provider previously cared for this resident.  The provider associated with this resident was updated.  Please verif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60 Medicare FY2011 RUG IV Transition RUG Calculat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dicare FY2011 Transition RUG IV was calculated for this assess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616b Incorrect RUG Logic Ver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mitted value of the RUG version code does not match the value calculated by the QIES ASAP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3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808 Missing/Invalid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quired Section S item is either missing or contains invalid data. Number fields must be uns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16a Incorrect HIPPS/RUG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value of the HIPPS/RUG code does not match the value calculated by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4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810d Record Submitted 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mission date is more than 14 days after Z0500B on this new (X0100 equals 1) assess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18 Inconsistent Record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CMS sequencing guidelines, the type of assessment in this record does not logically follow the type of assessment in the record received prior to this 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749a Assessment Completed 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0500B (assessment completion date) is more than 14 days after A2300 (assessment reference da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Timing and Sequencing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Assessment (-3759a-e, -3810a-e, -10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ubmitted and accepted within 14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sistent Record Sequence (-10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 an entry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/submit a discharge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/submit a required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sident and not an entry record (-10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Information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resident information (-10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o make sure new resident information is corre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PS/RUG code doesn’t match (-3616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 the ASAP recalculated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PS/RUG version doesn’t match (-3616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 software using different RUGS (logic) version of the RUGS than ASAP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iscal Year RUG code calculated  (-1059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unication Erro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A0100C  (-3806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Provider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submitted a blank in the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gency did not enter number in th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gency and facility have a different number of leading zeros on th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numbers do not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tate - 4963, facility – 0004963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from the database is displayed in the error message (Current Value).  If facility thinks the number is wrong, then they should contact their state ag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Supplemental Excursions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ter Validation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dmission/Re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ssessments with Error Number 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Dis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 Detail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 Number Summary by Facility by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Beginning the Journey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s by Field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Missing OBRA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NH Assessment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RFA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R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Submission Statistics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Vendor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ubmitter Validation Repor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ly need to 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hould be on FFV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when FFVR for the submission lists fewer records than were submitted in th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P system could not read missing record.  (-1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P system could not identify facility of record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1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run by submitter of th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Activity Repor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33" name="Content Placeholder 2" descr=""/>
          <p:cNvPicPr/>
          <p:nvPr/>
        </p:nvPicPr>
        <p:blipFill>
          <a:blip r:embed="rId1"/>
          <a:stretch/>
        </p:blipFill>
        <p:spPr>
          <a:xfrm>
            <a:off x="420840" y="1542960"/>
            <a:ext cx="826596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Admission/Reentr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35" name="Content Placeholder 2" descr=""/>
          <p:cNvPicPr/>
          <p:nvPr/>
        </p:nvPicPr>
        <p:blipFill>
          <a:blip r:embed="rId1"/>
          <a:stretch/>
        </p:blipFill>
        <p:spPr>
          <a:xfrm>
            <a:off x="420840" y="1542960"/>
            <a:ext cx="83088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Assessments with Error Number XXXX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s the assessments submitted with a specified error for a facility during a specified timefra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assessments with certain fatal errors that were submitted that need to be corrected and resubmit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determine which assessments were not completed under CMS timing rules (i.e., OBRA quarterly and yearly rul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a pattern with coding or an area in need of trai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software-related err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Dischar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residents discharged (A0310F = 10, 11, or 12) from a facility during a specified time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discharged resident appears on the MDS 3.0 Roster report, use this report to determine if discharge was accepted in the ASAP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rive a list of all residents discharged since the last survey or other tim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monthly or more frequ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Error Detail by Facilit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41" name="Content Placeholder 2" descr=""/>
          <p:cNvPicPr/>
          <p:nvPr/>
        </p:nvPicPr>
        <p:blipFill>
          <a:blip r:embed="rId1"/>
          <a:stretch/>
        </p:blipFill>
        <p:spPr>
          <a:xfrm>
            <a:off x="433440" y="1163520"/>
            <a:ext cx="843588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Error Number Summary by Facility by Vendor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the errors encountered on assessments submitted by or on behalf of a facility during a specified timefr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vendor specific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Errors by Field by Facilit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errors encountered in the fields of successful submissions made by or on behalf of a facility during a specified timefr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training needs within fac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identify potential softwar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MDS 3.0 Missing OBRA Assessment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the residents in select facilities for whom the target date of the most recent OBRA assessment (other than a discharge or death record) is more than 138 days prior to the report run d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also includes residents for whom no OBRA record was submitted for a current episode that began more than 60 days prior to the report run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s a QA tool to ensure all assessment have been successfully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ubmission Statu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5334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sts all files submitted by the user logged into the submission status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Content Placeholder 8" descr="Image of List of My Submissions page.  The columns titled Total Record Count and Status are highlighted.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NH Assessment Prin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assessment items submitted on the assessment with the selected Assessment 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problem s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RFA Statistic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for a facility the reasons for assessment for accepted assessments submitted during a specified time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monitor /evaluate workload during an identified time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Roste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residents of a facility for whom the latest accepted, federally required assessment is not a Discharge assessment. (A0310F = 10, 11, or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a list of all current residents at time of surv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s a QA tool to ensure all current residents have an entry record and all discharge residents have a discharge record in the ASAP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Submission Statistics by Facility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the submissions made by or on behalf of a facility during a specified timefr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determine workload during a specified time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Vendor Lis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all current vendors for select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active vendors within a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Home Stretch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ferenc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Data Submission Specifications on the CMS MDS 3.0 web site at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ttp://www.cms.gov/nursinghomequalityinits/30_nhqimds30technicalinformation.as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Data Set (MDS) 3.0 Provider User’s Guide on the QTSO MDS 3.0 web site at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https://www.qtso.com/mds30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5 contains the error and warning mess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ferenc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PER Reporting User’s Guide for MDS Providers at       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ttps://www.qtso.com/mds30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6 contains MDS 3.0 NH provider reports (section 8 is swing bed provider repor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7 contains the MDS 3.0 NH final validation report (section 9 is swing bed final validation repor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 contains MDS 3.0 submitter validation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Zero Records Processed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FILE - Fatal Fil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cannot be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cords in ZIP file can be ext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acility Final Validat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your vend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not per spec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One or More Records Processed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y Final Validation Report  (FFV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gene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ed into CASPER fol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viewed by anyone with a submitter user ID for that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each record proce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ed or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Final Validation Report Loc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n to CASPER, go to F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LTC fac_id V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ontains facility validation r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mmddyyyyhhmmss.submission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ddyyyy is the submiss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hmmss is the submission time (24 hour time: hour, minutes, 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ID is the submission ID of the submission 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01132012142046.2628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d on 01/13/2012 at 14:20:46 (2:20 pm), ID = 2628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FFVR Repor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Head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Head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pecif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Messag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3:06:59Z</dcterms:created>
  <dc:creator>Mary Sowers</dc:creator>
  <dc:description/>
  <dc:language>en-US</dc:language>
  <cp:lastModifiedBy>Jennifer Parrish</cp:lastModifiedBy>
  <cp:lastPrinted>2012-02-16T20:10:47Z</cp:lastPrinted>
  <dcterms:modified xsi:type="dcterms:W3CDTF">2012-03-19T02:55:14Z</dcterms:modified>
  <cp:revision>55</cp:revision>
  <dc:subject/>
  <dc:title>Functions in Support of Self-Dir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7827630</vt:r8>
  </property>
  <property fmtid="{D5CDD505-2E9C-101B-9397-08002B2CF9AE}" pid="3" name="_AuthorEmail">
    <vt:lpwstr>Renee.Henry@cms.hhs.gov</vt:lpwstr>
  </property>
  <property fmtid="{D5CDD505-2E9C-101B-9397-08002B2CF9AE}" pid="4" name="_AuthorEmailDisplayName">
    <vt:lpwstr>Henry, Renee G (CMS/OCSQ)</vt:lpwstr>
  </property>
  <property fmtid="{D5CDD505-2E9C-101B-9397-08002B2CF9AE}" pid="5" name="_EmailSubject">
    <vt:lpwstr>Update for the training page</vt:lpwstr>
  </property>
  <property fmtid="{D5CDD505-2E9C-101B-9397-08002B2CF9AE}" pid="6" name="_NewReviewCycle">
    <vt:lpwstr/>
  </property>
</Properties>
</file>