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DS National Confer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3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arch 20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3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3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1D62-F392-4CCD-9D5A-2C450E6332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26CB-F620-4CE1-A1DE-47F9E27F1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rch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DS National Confer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558448-92C1-44D4-B6C2-C1C132EC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EB811B-89CF-4540-BD54-0D80AF57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79D613-0E20-4EDE-BADD-2ECE79DC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5155DB-FB0B-405C-A6A0-BAF2FDC0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08E19A-D7B5-4643-887E-27E1B223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89113F-E828-4AAA-A502-7263E5FD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A8354F-43C7-49DE-A32D-80671238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80AF49-66AD-48D8-8210-02F241DE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8262B0-113F-4DF6-A502-BAB5AF31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F00248-94A1-479D-B07B-3E0C9F0F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AFF941-3749-44F3-B503-802ECDAF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32857C-FFE7-49F7-B6CE-54D45840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9B8DCE-BEBE-4988-B772-3C8AF3A9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B25871-9876-496E-B95B-DB6E81FB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D044F6-8D89-4BD5-8E0C-AB8C86C8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B58E93-E664-4E22-88CF-C5085EE0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EA82B0-A208-4399-9247-D8C9F3F5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2352EB-0EA9-40B7-A958-BE44128D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E6DBA3-F50F-4FC6-BBF9-A1B7DAD7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81BC45-1C66-4943-8428-FBCBB4AE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64A410-462B-4742-B8B4-B2EB85D5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82EC76-A553-48AC-85A3-CB42268E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995E05-C9E1-4DE7-B65B-2A0A8CC6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DE3F53-6E57-41F8-A908-3ABFA47B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D4964C-F688-4C2C-8A23-9F8B036E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6A19AD-D52C-4EC0-9687-18548F6A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EF5593-8D5E-4C1B-B5EC-515A7DAD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E39514-631F-4BB6-ABE9-1D2BA5C2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B55C26-7CF4-4931-AA8F-D0B31615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6D3E42-D4F2-48A7-9D51-EC757F7D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47626-D1E7-4E55-91A3-4B25BE96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9B91AE-DEC5-40A9-9293-3253DE47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0EC5BD-0630-43CF-B6C3-20743428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7988F7-4EC0-43FE-B6A9-0756C5DE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4DB7B5-A396-44A6-8489-8FF05BF4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D6734E-1B31-4A45-AB1A-A4BC9E11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05978D-9146-4C05-9D00-33FE3D58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66AAA9-5251-4A4B-8377-2193BD57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3A5B2F-B881-40A9-B1E4-4AD78A62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D37B61-FE8F-44BB-8719-B462DC92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6B11FF-A5FC-4CBA-A479-C8E69FD5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96E3C-C672-4F9F-9C1E-38497412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086037-0904-4EFE-A52A-4939FD9C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19DF30-3FAD-4DCD-9C3E-1119E724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510C78-C44B-44A8-996A-102A91B5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694B56-6628-4058-A497-69437FC2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B79251-D114-49F8-9EF2-4271C113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50E6E-B0C1-4716-B5AD-47DE3D63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1F907-4992-4CA0-9E49-B9257AA0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0C779-0DFE-4F1C-9AF3-8D5E3321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8CD08-C919-4C8E-8161-18C97317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8661D-EAD8-47C8-BE89-61C303C9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87A98-37B5-4418-B263-7EA1E952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FDB59-24B5-4337-A945-CA428160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954F6-5A56-4FDB-A4C2-A8EB97F6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31BC4-770E-4A3F-AFEF-688EA413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F6C2F-0597-4D72-92CA-6712673D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2394A-ADF2-45D1-9E3A-CDE5718C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88FDB-5B69-4688-9E16-4F42B201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5CCEC-95EA-41D5-81A7-0E33E03A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5AA8A-E7F0-45A1-AD57-3E37A313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7B8F4-0E41-4188-8840-96AB9461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D3BF4-3049-4B39-8077-CFCA918C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D8A01-3C4D-447A-AAAB-46EA5CC0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28236-F84A-4FE0-A333-F9BDB4A7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39995-21DE-4A43-BEB8-9788A007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189BC-CD89-42E8-9237-58498F67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11916-070B-468B-B4F7-33FDCB22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3B571-DB2F-4876-BC96-F703BD1E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150352-8846-47C2-95DF-AAF8DBB5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B51D52-CB39-478F-AF36-424B727D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D48293-C74E-401A-B0FB-C7556245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92CD8D-B7BA-4CCB-861E-77CAAADB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18F35C-66BC-4D74-9A4F-7E027472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7F9B74-B390-4ED3-A279-E1FB9658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80B67E-3979-4555-A40B-87B69BA4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9FFBAA-37AF-463E-8CAB-60E51C5D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C1C74D-1A59-4C01-94E5-79630B09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48392D-6D91-45DD-8EC0-ECE55325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72FAF3-48A9-48E9-B84A-8DCBDEA1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D43E2D-7B1B-4958-8D1C-DAAB7F13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60E996-DB3D-407C-A0BD-5DD8E93B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DF7F2D-BDFB-45AF-9075-08C864BC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8BED17-CBAF-4848-B2AB-D972E193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4D659-C2E4-40A0-83BD-7E11761C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437212-9A2A-4B38-BB0F-68103F2F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439D9F-0BB6-454A-AF39-1B7D3352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46ADA-04D0-4F75-9BDD-00EF25D1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5D44C3-1896-4673-BB45-2B1B833D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27CCEC-4E2C-4B77-A464-4B7BD57C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41FAE-5DD2-4535-A906-DD8F389D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C81432-CE13-4DD8-8566-3F1B1C7E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BAFEB-1E35-4DDA-B8AE-C9C6A7BA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BC198-BC59-472A-818C-CCCDB8B3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5CCDFB-BFF3-4990-A138-C48A29EB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1DFE23-BAB9-4B3F-A778-376D56A9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09B476-2C94-4A6E-8D79-791E5435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665AA9-570A-47EC-BC2B-D9774408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1A01F5-EA2A-476D-9A54-FC335012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00EE4E-AB51-4E29-BA3D-478B8C10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104B06-A014-48CE-845C-CBD9DF91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04B9FF-50DC-4313-9E76-04A62217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56F02D-B9F7-4D3F-A034-778A7392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5A9A83-D4FB-47FE-BB20-F91C3F11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AA4126-840F-4F04-9F3C-05A34976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63EE2-B044-4217-9DC5-113990A4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B43B71-B2DD-4770-9AEB-E6AA2B98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C2AE90-BB8B-4816-BF63-ACE020A9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0591AB-B6C6-48EC-9C8F-CB69C400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79EF79-037B-4EC0-8CE3-F2923240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DEB306-0B58-43AA-B110-F2E528BB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A6CD83-DAE7-4392-9BA4-7EE81D0A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33E94-7643-416E-88D9-3A6DE901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9412F-9D40-4061-8558-BE0BBB73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D3DF11-6DA6-4461-B3B9-8AC4E8EF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38E53C-087F-4B1D-AE1B-36BDA6F5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35BC6F-B9EF-4348-ABBF-C8544D12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8BD02C-502A-4999-BEF2-6C81788B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FD9331-C49B-43B6-AB61-57C18FEC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F3E79B-D36D-4CB8-971E-8851822E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BF2A5D-839A-4173-BF70-F13FD6D2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1A352A-6F2B-41E2-946B-61D62BB0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4AAA8B-E6C8-4ECA-AE1B-607FEE33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2517AB-3CDE-42C3-8901-570CAFA3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EE5E34-6533-46E3-8B08-D4FF350E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253DDD-6C42-4DC6-ADBA-86B410D4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7550D5-5108-48E8-9C36-52A1D109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48AC3B-6448-46AB-B616-61019412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E6BDE5-9E41-4CCC-B13A-5B6997F9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BFE28E-985A-4A0A-B19B-F8629F39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A20F8A-06CC-491B-ADAF-B659D889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0FCF43-0F9F-4BAA-97B1-703434FF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012 MDS National Con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7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61AF-E926-45B2-9DF1-4A0E106E2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0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7B8D-1F2D-47AD-9C5E-91ADEB239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5018-392A-4A0A-9FC4-87A7A0F643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5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2673-E9C2-4B9D-9EA3-7ECAFD44C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F600-0BAA-42F3-9F97-8F21853C1E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9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C82F-0820-437F-91D5-722A31545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189F-1C3D-4280-82A5-90ED0EF552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6F7B-118F-43D5-B076-5E3334DA34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C133-813F-4DE9-9455-53ACD02E8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A2EF-F880-4745-AE62-94825332DA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66EF-F057-40B7-A15D-9DD83D9AA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65E5-2335-4E12-86E2-4CFE404693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B744-738A-4794-9D1C-ADA6AC548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B6EF-D104-409D-B54C-2CA66C9589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5D0C-69BE-42B0-9433-344E427F7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6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81A9-7883-4D9F-B300-CB508646E7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BAED-FDB4-4049-B140-B26CBC89F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5CDA-9055-45BA-8A42-73D623A320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636E-6753-40BC-AB00-721C75C78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6B5B-9FED-4338-A054-877DF6278C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053E-9D7D-48B9-B355-0F04E1A3D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0443-335A-432C-A6E8-F71195E233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cms.gov/nursinghomequalityinits/30_nhqimds30technicalinformation.asp" TargetMode="External"/><Relationship Id="rId2" Type="http://schemas.openxmlformats.org/officeDocument/2006/relationships/hyperlink" Target="https://www.qtso.com/mds30.html" TargetMode="External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s://www.qtso.com/mds30.html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Garamond"/>
              </a:rPr>
              <a:t>MDS 3.0 Errors and Reports – Don’t Let Them Trip You Up</a:t>
            </a:r>
            <a:endParaRPr b="0" lang="en-US" sz="4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port Header Inform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Date/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ID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ter User ID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File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y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Code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y ID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Informatio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Completion Date/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 Records in Submission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Invalid Rec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 Records Processed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Records Accep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 Production Records Rejected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Duplicate Records: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Records Submitted  Without Facility Authority: (useri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Records Submitted  But Not Allowed   (subre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# of Messages for Production Recor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Report Header: Submission &amp; Facility Information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8088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Submissio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NH Final Validatio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Date/Ti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22/2012 14:06: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Completion Date/Ti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22/2011215:15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I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File Status:                      Comple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Cod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I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94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ter User I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TEST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Report Header: Processing Information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 Submission Repo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S 3.0 NH Final Validation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Records in Submission Fi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Invalid Rec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Records Proces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Accep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Rejec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Duplicate Rec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Submit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Facility Authori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Submit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Allow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# of Message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Rec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cord Header Inform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processing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mt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(last, fir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_Int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050 (type of transaction) – changed 4/1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200 (type of provider cod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 Subset Code (IS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A (OBRA RF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B (PPS R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C (PPS OMRA RF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D (SB clinical ch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E (first assessmen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F (entry/discharg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G (type of discharge) – new 4/1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1100E (attestation date) Data Spec Version #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File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cord Header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cord:  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epte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Record 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mt_ID:  317144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Name:  TEST1, MDSname1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_Int_ID:  1576613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SSN:  899741056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orm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200:      1   A0310A: 99    Target Date:  04/14/20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310B: 01   A0310C:    0    Production/Test Indicator:  PRODU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310D:   ^   A0310E:    1    Attestation Date (X1100E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310F: 99   A0310G:    ^    Type of Transaction (A0050):  NEW RECO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em Subset Code:  NP         Data Specs Version #:  1.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 File Name:                     IN_FAC11940000_RES09434_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20729_A00_NP199990_01.xm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cord Detail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ight Arrow 5"/>
          <p:cNvSpPr/>
          <p:nvPr/>
        </p:nvSpPr>
        <p:spPr>
          <a:xfrm>
            <a:off x="4724280" y="1752480"/>
            <a:ext cx="685800" cy="889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9999"/>
          </a:solidFill>
          <a:ln w="381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ight Brace 6"/>
          <p:cNvSpPr/>
          <p:nvPr/>
        </p:nvSpPr>
        <p:spPr>
          <a:xfrm>
            <a:off x="6629400" y="2209680"/>
            <a:ext cx="304920" cy="619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619200"/>
              <a:gd name="textAreaBottom" fmla="*/ 611280 h 61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3"/>
                  <a:pt x="10800" y="886"/>
                </a:cubicBezTo>
                <a:lnTo>
                  <a:pt x="10800" y="9914"/>
                </a:lnTo>
                <a:cubicBezTo>
                  <a:pt x="10800" y="10357"/>
                  <a:pt x="16200" y="10800"/>
                  <a:pt x="21600" y="10800"/>
                </a:cubicBezTo>
                <a:cubicBezTo>
                  <a:pt x="16200" y="10800"/>
                  <a:pt x="10800" y="11243"/>
                  <a:pt x="10800" y="11686"/>
                </a:cubicBezTo>
                <a:lnTo>
                  <a:pt x="10800" y="20714"/>
                </a:lnTo>
                <a:cubicBezTo>
                  <a:pt x="10800" y="2115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304920" y="2971800"/>
            <a:ext cx="8534160" cy="2438280"/>
          </a:xfrm>
          <a:prstGeom prst="rect">
            <a:avLst/>
          </a:prstGeom>
          <a:noFill/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Straight Arrow Connector 8"/>
          <p:cNvCxnSpPr/>
          <p:nvPr/>
        </p:nvCxnSpPr>
        <p:spPr>
          <a:xfrm>
            <a:off x="4343040" y="5410080"/>
            <a:ext cx="1080" cy="354960"/>
          </a:xfrm>
          <a:prstGeom prst="straightConnector1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 Inform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53352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Item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items to which the error message per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Data Submit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s the submitted values of the items listed in the MDS 3.0 Item(s)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unique message number and type of message (fatal/warning).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text of the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 Exampl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Item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Date, A0050, Z050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Data Submitt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3/21/2011, 1, 01/20/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810d      W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ubmitted Late: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date is more than 14 days after Z0500B on this new (A0050 equals 1)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 Exampl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Item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0100A, RECALCULATED_Z0100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Data Submitt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160, BA1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616a       WARNING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rect HIPPS/RUG Value: The submitted value of the HIPPS/RUG code does not match the value calculated by the QIES ASAP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Various Destinations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record is edited for potential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Error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al  -  “Really Bad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is not accepted into ASAP system, i.e. rejec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correct record and submit ‘new’ re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nings  -  “Issue” to  “Information Ale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is accepted into ASAP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uld determine if need to address/fix someth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The Itinerar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ssion Statu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y Final Validat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ASPER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oftware Functionality Issu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ntry software should be ensuring that the data entered is compliant with the Data Spec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allowing submission of a record, the software shou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active items are comp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the data is compliant with all ed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errors/messages to the user for missing items and failed 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Fat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Flow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/Softwar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Warning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and Sequenc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al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07 Duplicate Asse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d record is a duplicate of a previously submitted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30 Missing Ite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upon the Item Subset Code (ISC) submitted in this record, this item is requ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76 Invalid Valu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submitted for this item is not an acceptabl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573a Inconsistent D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spcAft>
                <a:spcPts val="4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date listed must be prior to or the same as the second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93a Invalid FAC_I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spcAft>
                <a:spcPts val="4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C_ID submitted in this file does not identify a valid provider in the QIES ASAP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93b Unauthorized Submitt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spcAft>
                <a:spcPts val="4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r's User ID is not authorized to submit data on behalf of the provider identified by the FAC ID in this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3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58 No Authority to Collect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 rights require federal and/or state authority to collect MDS data.  There is no authority to collect the data submitted.  Data was not accep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04 Invalid XML File Forma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bmitted file is not structured properly or contains tags longer than 30 characters and cannot be process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4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68b Inconsistent O I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2300 minus A1600 is less than or equal to 13 days, then items O0100A1 through O0100Z1 in Column 1 must equal 0, 1, or dash (-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783 Inconsistent X08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d modification value submitted in X0800 is not incremented by one (1) from the previously submitted modification value for this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Work Flow Fat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e Record (-1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does not know which files were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ding validation report(s)/activity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ing in original rather than a modification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uthorized submitter (corporate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)      (-3693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uthority to collect (sub-req) (-36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User/Software Fat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ted value is in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understood the question/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ntry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ignored/overrode the issued softwar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n’t answer (code) required i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didn’t issue error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User/Software Fatal Error Examples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Dates (date o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573a, -3573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Skip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704b, -3612a, -3528c, -3779a, -3809, -3779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668b, -3752, -3608, -3752, -3559b, -3557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3691, -3676,  -36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0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oftware Fat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zipping the submissio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record format in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cluding required control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ccurate calculation of Item Subset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formatting of date or ICD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Planning the Journe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vie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y Final Validation Report (FFV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Section 5 of the Provider User’s Guide h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e intimid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MDS 3.0 reports, a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oftware Fatal Error Exampl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file not zipped (-1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not in correct XML format (-1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cluded all required control items (-1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_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_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 code does not match A0310 values (-37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Format (dates, ICD codes, text values, numbers) (-3677, -3591, -3570, -3688,-37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0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806 Inconsistent A0100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submitted for A0100C (State Provider Number) does not match the State Provider Number in the QIES ASAP System for the provider identified by the FAC_ID in the f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31 Resident Information Updat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t identifying data submitted in this item is not the same as the data previously submitted for this resident.  Verify that the new information is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32 Resident Provider Upd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records indicated that a different provider previously cared for this resident.  The provider associated with this resident was updated.  Please verif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60 Medicare FY2011 RUG IV Transition RUG Calculat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dicare FY2011 Transition RUG IV was calculated for this assess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616b Incorrect RUG Logic Ver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mitted value of the RUG version code does not match the value calculated by the QIES ASAP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3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808 Missing/Invalid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quired Section S item is either missing or contains invalid data. Number fields must be uns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16a Incorrect HIPPS/RUG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d value of the HIPPS/RUG code does not match the value calculated by the QIES ASAP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4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810d Record Submitted 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mission date is more than 14 days after Z0500B on this new (X0100 equals 1) assess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18 Inconsistent Record Sequ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CMS sequencing guidelines, the type of assessment in this record does not logically follow the type of assessment in the record received prior to this 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749a Assessment Completed 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0500B (assessment completion date) is more than 14 days after A2300 (assessment reference da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Timing and Sequencing Messa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Assessment (-3759a-e, -3810a-e, -10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ubmitted and accepted within 14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nsistent Record Sequence (-10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complete an entry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complete/submit a discharge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complete/submit a required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sident and not an entry record (-10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Information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resident information (-10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o make sure new resident information is corre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PS/RUG code doesn’t match (-3616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 the ASAP recalculated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PS/RUG version doesn’t match (-3616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 software using different RUGS (logic) version of the RUGS than ASAP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Fiscal Year RUG code calculated  (-1059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unication Error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A0100C  (-3806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Provider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y submitted a blank in the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gency did not enter number in the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gency and facility have a different number of leading zeros on th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 numbers do not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tate - 4963, facility – 0004963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from the database is displayed in the error message (Current Value).  If facility thinks the number is wrong, then they should contact their state ag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Supplemental Excursions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port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ter Validation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Admission/Re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Assessments with Error Number 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Dis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Error Detail by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Error Number Summary by Facility by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Beginning the Journey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port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Errors by Field by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Missing OBRA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NH Assessment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RFA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R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Submission Statistics by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Vendor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ubmitter Validation Repor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ly need to 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hould be on FFV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when FFVR for the submission lists fewer records than were submitted in th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P system could not read missing record.  (-1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P system could not identify facility of record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1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run by submitter of th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Activity Repor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33" name="Content Placeholder 2" descr=""/>
          <p:cNvPicPr/>
          <p:nvPr/>
        </p:nvPicPr>
        <p:blipFill>
          <a:blip r:embed="rId1"/>
          <a:stretch/>
        </p:blipFill>
        <p:spPr>
          <a:xfrm>
            <a:off x="420840" y="1542960"/>
            <a:ext cx="826596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Admission/Reentr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35" name="Content Placeholder 2" descr=""/>
          <p:cNvPicPr/>
          <p:nvPr/>
        </p:nvPicPr>
        <p:blipFill>
          <a:blip r:embed="rId1"/>
          <a:stretch/>
        </p:blipFill>
        <p:spPr>
          <a:xfrm>
            <a:off x="420840" y="1542960"/>
            <a:ext cx="83088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MDS 3.0 Assessments with Error Number XXXX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s the assessments submitted with a specified error for a facility during a specified timefra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identify assessments with certain fatal errors that were submitted that need to be corrected and resubmit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determine which assessments were not completed under CMS timing rules (i.e., OBRA quarterly and yearly rul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identify a pattern with coding or an area in need of trai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identify software-related err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Dischar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e residents discharged (A0310F = 10, 11, or 12) from a facility during a specified time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discharged resident appears on the MDS 3.0 Roster report, use this report to determine if discharge was accepted in the ASAP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rive a list of all residents discharged since the last survey or other time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monthly or more frequ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Error Detail by Facilit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41" name="Content Placeholder 2" descr=""/>
          <p:cNvPicPr/>
          <p:nvPr/>
        </p:nvPicPr>
        <p:blipFill>
          <a:blip r:embed="rId1"/>
          <a:stretch/>
        </p:blipFill>
        <p:spPr>
          <a:xfrm>
            <a:off x="433440" y="1163520"/>
            <a:ext cx="843588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MDS 3.0 Error Number Summary by Facility by Vendor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the errors encountered on assessments submitted by or on behalf of a facility during a specified timefr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vendor specific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Errors by Field by Facilit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e errors encountered in the fields of successful submissions made by or on behalf of a facility during a specified timefr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training needs within fac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identify potential software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MDS 3.0 Missing OBRA Assessment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 the residents in select facilities for whom the target date of the most recent OBRA assessment (other than a discharge or death record) is more than 138 days prior to the report run d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also includes residents for whom no OBRA record was submitted for a current episode that began more than 60 days prior to the report run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s a QA tool to ensure all assessment have been successfully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ubmission Statu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5334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sts all files submitted by the user logged into the submission status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Content Placeholder 8" descr="Image of List of My Submissions page.  The columns titled Total Record Count and Status are highlighted.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NH Assessment Prin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e assessment items submitted on the assessment with the selected Assessment 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problem so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RFA Statistic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for a facility the reasons for assessment for accepted assessments submitted during a specified time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monitor /evaluate workload during an identified time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Roster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residents of a facility for whom the latest accepted, federally required assessment is not a Discharge assessment. (A0310F = 10, 11, or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a list of all current residents at time of surv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s a QA tool to ensure all current residents have an entry record and all discharge residents have a discharge record in the ASAP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MDS 3.0 Submission Statistics by Facility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the submissions made by or on behalf of a facility during a specified timefr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determine workload during a specified time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Vendor Lis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all current vendors for select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active vendors within a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Home Stretch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ferenc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Data Submission Specifications on the CMS MDS 3.0 web site at </a:t>
            </a: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http://www.cms.gov/nursinghomequalityinits/30_nhqimds30technicalinformation.asp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Data Set (MDS) 3.0 Provider User’s Guide on the QTSO MDS 3.0 web site at </a:t>
            </a: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https://www.qtso.com/mds30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5 contains the error and warning mess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ferenc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PER Reporting User’s Guide for MDS Providers at        </a:t>
            </a: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https://www.qtso.com/mds30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6 contains MDS 3.0 NH provider reports (section 8 is swing bed provider repor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7 contains the MDS 3.0 NH final validation report (section 9 is swing bed final validation repor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10 contains MDS 3.0 submitter validation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Zero Records Processed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FILE - Fatal Fil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cannot be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cords in ZIP file can be ext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acility Final Validat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your vend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not per spec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One or More Records Processed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y Final Validation Report  (FFV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gener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ed into CASPER fol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viewed by anyone with a submitter user ID for that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each record proce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ed or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Final Validation Report Loc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n to CASPER, go to F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LTC fac_id V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ontains facility validation r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d mmddyyyyhhmmss.submission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ddyyyy is the submiss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hmmss is the submission time (24 hour time: hour, minutes, seco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ID is the submission ID of the submission f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- 01132012142046.2628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ted on 01/13/2012 at 14:20:46 (2:20 pm), ID = 2628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FFVR Repor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Head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Head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pecif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 Messag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3:06:59Z</dcterms:created>
  <dc:creator>Mary Sowers</dc:creator>
  <dc:description/>
  <dc:language>en-US</dc:language>
  <cp:lastModifiedBy>Jennifer Parrish</cp:lastModifiedBy>
  <cp:lastPrinted>2012-02-16T20:10:47Z</cp:lastPrinted>
  <dcterms:modified xsi:type="dcterms:W3CDTF">2012-03-19T02:55:14Z</dcterms:modified>
  <cp:revision>55</cp:revision>
  <dc:subject/>
  <dc:title>Functions in Support of Self-Dir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7827630</vt:r8>
  </property>
  <property fmtid="{D5CDD505-2E9C-101B-9397-08002B2CF9AE}" pid="3" name="_AuthorEmail">
    <vt:lpwstr>Renee.Henry@cms.hhs.gov</vt:lpwstr>
  </property>
  <property fmtid="{D5CDD505-2E9C-101B-9397-08002B2CF9AE}" pid="4" name="_AuthorEmailDisplayName">
    <vt:lpwstr>Henry, Renee G (CMS/OCSQ)</vt:lpwstr>
  </property>
  <property fmtid="{D5CDD505-2E9C-101B-9397-08002B2CF9AE}" pid="5" name="_EmailSubject">
    <vt:lpwstr>Update for the training page</vt:lpwstr>
  </property>
  <property fmtid="{D5CDD505-2E9C-101B-9397-08002B2CF9AE}" pid="6" name="_NewReviewCycle">
    <vt:lpwstr/>
  </property>
</Properties>
</file>